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gif" ContentType="image/gif"/>
  <Override PartName="/ppt/media/image6.png" ContentType="image/png"/>
  <Override PartName="/ppt/media/image7.jpeg" ContentType="image/jpeg"/>
  <Override PartName="/ppt/media/image11.png" ContentType="image/png"/>
  <Override PartName="/ppt/media/image8.jpeg" ContentType="image/jpeg"/>
  <Override PartName="/ppt/media/image9.wmf" ContentType="image/x-wmf"/>
  <Override PartName="/ppt/media/image10.png" ContentType="image/png"/>
  <Override PartName="/ppt/media/image1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CC1D-191A-4A49-8778-E3D73C60A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D5F3-D5EE-4F84-AD2E-783C71790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43FA-F512-4CD8-BEE5-825812994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6AD3-119E-450B-A9D3-4C25770A8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BB2BA-20B3-4CE6-B621-50A4D938E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F049C-7322-450D-B774-7160BFE17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B0E19-A1A0-4034-B8BD-1F9BC1A0A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E639B-B8BA-4E96-B78D-55BEF9261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CB459-5517-4F28-85D2-C2E6AB214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30117-B589-40AD-A89F-006642877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3F986-5863-4113-93E1-AF3AFA79D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50A4-3A96-433B-9559-8BF0FD45E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62812-CE97-4EF8-A2AF-414C9FE9A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B9BE7-86EA-485E-A69D-D4A962F7A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F0EF6-621C-465C-8B93-8EB3DF1CD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1EB92-B398-4DA3-A9DB-5F5B0AA07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95587-41AA-4C96-93AA-75316532B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1AC2-0812-4524-89A3-7EB7FC14D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B9D7-2AF5-4E1A-8DF0-0A223BA81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7DF1-49D3-4672-94EE-7B53BAC92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1051-E246-4D2F-AFE3-B26B41D3D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BB7D-24F3-431D-BF9C-03E41F1C6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CCD4-A7D8-4B63-8034-110E6C475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0E9B-8695-4557-9D4E-145018302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BB0D3-4E28-445F-8F2F-E4041D0D3403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99081-2F2A-4565-8C66-133847DD7B9E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" Target="slide54.xml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" Target="slide15.xml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24000" y="1273320"/>
            <a:ext cx="8424720" cy="30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男性，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45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岁，因于当日清晨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4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时在为火炉添煤时，昏倒在屋子里，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小时后方被人发现，急诊入院。患者既往身体健康。体检：体温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37.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５℃，呼吸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24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次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/min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，脉搏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110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次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/min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，血压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100/70mmHg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，神志不清，口唇樱桃红色，其他无异常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实验室检查：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PaO</a:t>
            </a:r>
            <a:r>
              <a:rPr b="0" lang="zh-CN" sz="32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95mmHg ,HbCO30,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入院后立即吸氧，不久渐醒。给予纠酸、补液等处理后，病情迅速好转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50920" y="4869000"/>
            <a:ext cx="889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试分析：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(1)</a:t>
            </a: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是什么原因引起患者昏迷和神志不清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(2)</a:t>
            </a: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该患者呼吸和心率加快又是如何引起的 </a:t>
            </a: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"/>
          <p:cNvGrpSpPr/>
          <p:nvPr/>
        </p:nvGrpSpPr>
        <p:grpSpPr>
          <a:xfrm>
            <a:off x="1295280" y="914400"/>
            <a:ext cx="5689440" cy="5553360"/>
            <a:chOff x="1295280" y="914400"/>
            <a:chExt cx="5689440" cy="5553360"/>
          </a:xfrm>
        </p:grpSpPr>
        <p:grpSp>
          <p:nvGrpSpPr>
            <p:cNvPr id="171" name=""/>
            <p:cNvGrpSpPr/>
            <p:nvPr/>
          </p:nvGrpSpPr>
          <p:grpSpPr>
            <a:xfrm>
              <a:off x="2311200" y="914400"/>
              <a:ext cx="4673160" cy="5154120"/>
              <a:chOff x="2311200" y="914400"/>
              <a:chExt cx="4673160" cy="5154120"/>
            </a:xfrm>
          </p:grpSpPr>
          <p:sp>
            <p:nvSpPr>
              <p:cNvPr id="172" name=""/>
              <p:cNvSpPr/>
              <p:nvPr/>
            </p:nvSpPr>
            <p:spPr>
              <a:xfrm>
                <a:off x="2311200" y="914400"/>
                <a:ext cx="0" cy="515412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2311200" y="6068520"/>
                <a:ext cx="467316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2311200" y="5131440"/>
                <a:ext cx="20268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2311200" y="4194000"/>
                <a:ext cx="20268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2311200" y="3256920"/>
                <a:ext cx="20268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2311200" y="2319840"/>
                <a:ext cx="20268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2311200" y="1382400"/>
                <a:ext cx="20268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123720" y="5834520"/>
                <a:ext cx="0" cy="2340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3936600" y="5834520"/>
                <a:ext cx="0" cy="2340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4749120" y="5834520"/>
                <a:ext cx="0" cy="2340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5561640" y="5834520"/>
                <a:ext cx="0" cy="2340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6374880" y="5834520"/>
                <a:ext cx="0" cy="2340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4" name=""/>
            <p:cNvSpPr/>
            <p:nvPr/>
          </p:nvSpPr>
          <p:spPr>
            <a:xfrm>
              <a:off x="1295280" y="1031040"/>
              <a:ext cx="1015920" cy="28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10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 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8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 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6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 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4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 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2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819160" y="6068880"/>
              <a:ext cx="4165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ahoma"/>
                </a:rPr>
                <a:t>   </a:t>
              </a:r>
              <a:r>
                <a:rPr b="0" lang="zh-CN" sz="2000" spc="-1" strike="noStrike">
                  <a:solidFill>
                    <a:srgbClr val="ffffff"/>
                  </a:solidFill>
                  <a:latin typeface="Tahoma"/>
                </a:rPr>
                <a:t>20      40      60       80       10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340000" y="981000"/>
            <a:ext cx="4114800" cy="4924440"/>
          </a:xfrm>
          <a:custGeom>
            <a:avLst/>
            <a:gdLst/>
            <a:ahLst/>
            <a:rect l="l" t="t" r="r" b="b"/>
            <a:pathLst>
              <a:path w="1924" h="1924">
                <a:moveTo>
                  <a:pt x="0" y="1924"/>
                </a:moveTo>
                <a:cubicBezTo>
                  <a:pt x="24" y="1876"/>
                  <a:pt x="109" y="1712"/>
                  <a:pt x="144" y="1636"/>
                </a:cubicBezTo>
                <a:cubicBezTo>
                  <a:pt x="179" y="1560"/>
                  <a:pt x="185" y="1532"/>
                  <a:pt x="209" y="1466"/>
                </a:cubicBezTo>
                <a:cubicBezTo>
                  <a:pt x="233" y="1400"/>
                  <a:pt x="270" y="1298"/>
                  <a:pt x="288" y="1243"/>
                </a:cubicBezTo>
                <a:cubicBezTo>
                  <a:pt x="306" y="1188"/>
                  <a:pt x="296" y="1209"/>
                  <a:pt x="314" y="1139"/>
                </a:cubicBezTo>
                <a:cubicBezTo>
                  <a:pt x="332" y="1069"/>
                  <a:pt x="359" y="944"/>
                  <a:pt x="394" y="820"/>
                </a:cubicBezTo>
                <a:cubicBezTo>
                  <a:pt x="429" y="696"/>
                  <a:pt x="463" y="496"/>
                  <a:pt x="524" y="392"/>
                </a:cubicBezTo>
                <a:cubicBezTo>
                  <a:pt x="585" y="288"/>
                  <a:pt x="663" y="248"/>
                  <a:pt x="759" y="196"/>
                </a:cubicBezTo>
                <a:cubicBezTo>
                  <a:pt x="855" y="144"/>
                  <a:pt x="1002" y="106"/>
                  <a:pt x="1100" y="78"/>
                </a:cubicBezTo>
                <a:cubicBezTo>
                  <a:pt x="1198" y="50"/>
                  <a:pt x="1277" y="38"/>
                  <a:pt x="1348" y="26"/>
                </a:cubicBezTo>
                <a:cubicBezTo>
                  <a:pt x="1419" y="14"/>
                  <a:pt x="1432" y="8"/>
                  <a:pt x="1528" y="4"/>
                </a:cubicBezTo>
                <a:cubicBezTo>
                  <a:pt x="1624" y="0"/>
                  <a:pt x="1842" y="1"/>
                  <a:pt x="1924" y="0"/>
                </a:cubicBezTo>
              </a:path>
            </a:pathLst>
          </a:custGeom>
          <a:noFill/>
          <a:ln w="3168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340000" y="1197000"/>
            <a:ext cx="3744720" cy="4822920"/>
          </a:xfrm>
          <a:custGeom>
            <a:avLst/>
            <a:gdLst/>
            <a:ahLst/>
            <a:rect l="l" t="t" r="r" b="b"/>
            <a:pathLst>
              <a:path w="1894" h="1885">
                <a:moveTo>
                  <a:pt x="0" y="1885"/>
                </a:moveTo>
                <a:cubicBezTo>
                  <a:pt x="23" y="1859"/>
                  <a:pt x="106" y="1776"/>
                  <a:pt x="140" y="1728"/>
                </a:cubicBezTo>
                <a:cubicBezTo>
                  <a:pt x="174" y="1680"/>
                  <a:pt x="180" y="1645"/>
                  <a:pt x="205" y="1597"/>
                </a:cubicBezTo>
                <a:cubicBezTo>
                  <a:pt x="230" y="1549"/>
                  <a:pt x="264" y="1490"/>
                  <a:pt x="288" y="1440"/>
                </a:cubicBezTo>
                <a:cubicBezTo>
                  <a:pt x="312" y="1390"/>
                  <a:pt x="333" y="1339"/>
                  <a:pt x="349" y="1296"/>
                </a:cubicBezTo>
                <a:cubicBezTo>
                  <a:pt x="365" y="1253"/>
                  <a:pt x="363" y="1243"/>
                  <a:pt x="384" y="1183"/>
                </a:cubicBezTo>
                <a:cubicBezTo>
                  <a:pt x="405" y="1123"/>
                  <a:pt x="447" y="1009"/>
                  <a:pt x="476" y="938"/>
                </a:cubicBezTo>
                <a:cubicBezTo>
                  <a:pt x="505" y="867"/>
                  <a:pt x="534" y="811"/>
                  <a:pt x="559" y="759"/>
                </a:cubicBezTo>
                <a:cubicBezTo>
                  <a:pt x="584" y="707"/>
                  <a:pt x="582" y="690"/>
                  <a:pt x="624" y="628"/>
                </a:cubicBezTo>
                <a:cubicBezTo>
                  <a:pt x="666" y="566"/>
                  <a:pt x="752" y="443"/>
                  <a:pt x="809" y="384"/>
                </a:cubicBezTo>
                <a:cubicBezTo>
                  <a:pt x="866" y="325"/>
                  <a:pt x="911" y="307"/>
                  <a:pt x="969" y="275"/>
                </a:cubicBezTo>
                <a:cubicBezTo>
                  <a:pt x="1027" y="243"/>
                  <a:pt x="1050" y="230"/>
                  <a:pt x="1155" y="192"/>
                </a:cubicBezTo>
                <a:cubicBezTo>
                  <a:pt x="1260" y="154"/>
                  <a:pt x="1475" y="80"/>
                  <a:pt x="1598" y="48"/>
                </a:cubicBezTo>
                <a:cubicBezTo>
                  <a:pt x="1721" y="16"/>
                  <a:pt x="1845" y="8"/>
                  <a:pt x="1894" y="0"/>
                </a:cubicBezTo>
              </a:path>
            </a:pathLst>
          </a:custGeom>
          <a:noFill/>
          <a:ln w="316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340000" y="1628640"/>
            <a:ext cx="4064040" cy="4367520"/>
          </a:xfrm>
          <a:custGeom>
            <a:avLst/>
            <a:gdLst/>
            <a:ahLst/>
            <a:rect l="l" t="t" r="r" b="b"/>
            <a:pathLst>
              <a:path w="1920" h="1789">
                <a:moveTo>
                  <a:pt x="0" y="1789"/>
                </a:moveTo>
                <a:cubicBezTo>
                  <a:pt x="35" y="1771"/>
                  <a:pt x="166" y="1724"/>
                  <a:pt x="225" y="1682"/>
                </a:cubicBezTo>
                <a:cubicBezTo>
                  <a:pt x="284" y="1640"/>
                  <a:pt x="317" y="1575"/>
                  <a:pt x="356" y="1535"/>
                </a:cubicBezTo>
                <a:cubicBezTo>
                  <a:pt x="396" y="1495"/>
                  <a:pt x="425" y="1486"/>
                  <a:pt x="463" y="1442"/>
                </a:cubicBezTo>
                <a:cubicBezTo>
                  <a:pt x="500" y="1398"/>
                  <a:pt x="536" y="1342"/>
                  <a:pt x="582" y="1269"/>
                </a:cubicBezTo>
                <a:cubicBezTo>
                  <a:pt x="629" y="1195"/>
                  <a:pt x="694" y="1086"/>
                  <a:pt x="741" y="1002"/>
                </a:cubicBezTo>
                <a:cubicBezTo>
                  <a:pt x="788" y="917"/>
                  <a:pt x="823" y="834"/>
                  <a:pt x="860" y="761"/>
                </a:cubicBezTo>
                <a:cubicBezTo>
                  <a:pt x="898" y="687"/>
                  <a:pt x="933" y="621"/>
                  <a:pt x="967" y="561"/>
                </a:cubicBezTo>
                <a:cubicBezTo>
                  <a:pt x="1000" y="501"/>
                  <a:pt x="1023" y="450"/>
                  <a:pt x="1059" y="401"/>
                </a:cubicBezTo>
                <a:cubicBezTo>
                  <a:pt x="1094" y="352"/>
                  <a:pt x="1137" y="305"/>
                  <a:pt x="1178" y="267"/>
                </a:cubicBezTo>
                <a:cubicBezTo>
                  <a:pt x="1220" y="229"/>
                  <a:pt x="1264" y="198"/>
                  <a:pt x="1311" y="173"/>
                </a:cubicBezTo>
                <a:cubicBezTo>
                  <a:pt x="1357" y="149"/>
                  <a:pt x="1406" y="138"/>
                  <a:pt x="1457" y="120"/>
                </a:cubicBezTo>
                <a:cubicBezTo>
                  <a:pt x="1507" y="103"/>
                  <a:pt x="1538" y="87"/>
                  <a:pt x="1615" y="66"/>
                </a:cubicBezTo>
                <a:cubicBezTo>
                  <a:pt x="1692" y="46"/>
                  <a:pt x="1857" y="14"/>
                  <a:pt x="1920" y="0"/>
                </a:cubicBezTo>
              </a:path>
            </a:pathLst>
          </a:custGeom>
          <a:noFill/>
          <a:ln w="3168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921040" y="2443320"/>
            <a:ext cx="203040" cy="2347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343400" y="4200480"/>
            <a:ext cx="203040" cy="235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717640" y="685800"/>
            <a:ext cx="213372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2,3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－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DPG↓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zh-CN" sz="1800" spc="-1" strike="noStrike" baseline="30000">
                <a:solidFill>
                  <a:srgbClr val="ffffff"/>
                </a:solidFill>
                <a:latin typeface="Tahoma"/>
              </a:rPr>
              <a:t>＋ 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↓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CO</a:t>
            </a:r>
            <a:r>
              <a:rPr b="0" lang="zh-CN" sz="1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↓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温度↓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749840" y="3732120"/>
            <a:ext cx="213372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2,3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－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DPG↑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zh-CN" sz="1800" spc="-1" strike="noStrike" baseline="30000">
                <a:solidFill>
                  <a:srgbClr val="ffffff"/>
                </a:solidFill>
                <a:latin typeface="Tahoma"/>
              </a:rPr>
              <a:t>＋ 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↑ 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CO</a:t>
            </a:r>
            <a:r>
              <a:rPr b="0" lang="zh-CN" sz="1800" spc="-1" strike="noStrike" baseline="-25000">
                <a:solidFill>
                  <a:srgbClr val="ffffff"/>
                </a:solidFill>
                <a:latin typeface="Tahoma"/>
              </a:rPr>
              <a:t>2 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↑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温度↑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11280" y="333360"/>
            <a:ext cx="10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氧饱和度</a:t>
            </a: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2268360" y="2781360"/>
            <a:ext cx="1295640" cy="381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564000" y="2781360"/>
            <a:ext cx="17280" cy="33145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276720" y="6278400"/>
            <a:ext cx="914400" cy="648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P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华文新魏"/>
                <a:ea typeface="华文新魏"/>
              </a:rPr>
              <a:t>5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443640" y="4683240"/>
            <a:ext cx="2232000" cy="906480"/>
          </a:xfrm>
          <a:prstGeom prst="borderCallout1">
            <a:avLst>
              <a:gd name="adj1" fmla="val 18750"/>
              <a:gd name="adj2" fmla="val -8333"/>
              <a:gd name="adj3" fmla="val 170578"/>
              <a:gd name="adj4" fmla="val -100782"/>
            </a:avLst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血红蛋白与氧的亲和性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914400" y="3017880"/>
            <a:ext cx="7543800" cy="167796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500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66ff33"/>
                </a:solidFill>
                <a:uFillTx/>
                <a:latin typeface="华文新魏"/>
                <a:ea typeface="华文新魏"/>
              </a:rPr>
              <a:t>供氧减少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或</a:t>
            </a:r>
            <a:r>
              <a:rPr b="1" lang="zh-CN" sz="4000" spc="-1" strike="noStrike" u="sng">
                <a:solidFill>
                  <a:srgbClr val="66ff33"/>
                </a:solidFill>
                <a:uFillTx/>
                <a:latin typeface="华文新魏"/>
                <a:ea typeface="华文新魏"/>
              </a:rPr>
              <a:t>用氧障碍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引起</a:t>
            </a: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细胞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的</a:t>
            </a:r>
            <a:r>
              <a:rPr b="1" lang="zh-CN" sz="4000" spc="-1" strike="noStrike" u="sng">
                <a:solidFill>
                  <a:srgbClr val="66ff33"/>
                </a:solidFill>
                <a:uFillTx/>
                <a:latin typeface="华文新魏"/>
                <a:ea typeface="华文新魏"/>
              </a:rPr>
              <a:t>功能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、</a:t>
            </a:r>
            <a:r>
              <a:rPr b="1" lang="zh-CN" sz="4000" spc="-1" strike="noStrike" u="sng">
                <a:solidFill>
                  <a:srgbClr val="66ff33"/>
                </a:solidFill>
                <a:uFillTx/>
                <a:latin typeface="华文新魏"/>
                <a:ea typeface="华文新魏"/>
              </a:rPr>
              <a:t>代谢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、</a:t>
            </a:r>
            <a:r>
              <a:rPr b="1" lang="zh-CN" sz="4000" spc="-1" strike="noStrike" u="sng">
                <a:solidFill>
                  <a:srgbClr val="66ff33"/>
                </a:solidFill>
                <a:uFillTx/>
                <a:latin typeface="华文新魏"/>
                <a:ea typeface="华文新魏"/>
              </a:rPr>
              <a:t>形态结构改变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的病理过程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403280" y="1052640"/>
            <a:ext cx="7272360" cy="1296720"/>
          </a:xfrm>
          <a:prstGeom prst="rect">
            <a:avLst/>
          </a:prstGeom>
          <a:gradFill rotWithShape="0">
            <a:gsLst>
              <a:gs pos="0">
                <a:srgbClr val="002f75"/>
              </a:gs>
              <a:gs pos="50000">
                <a:srgbClr val="0066ff"/>
              </a:gs>
              <a:gs pos="100000">
                <a:srgbClr val="002f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华文新魏"/>
              </a:rPr>
              <a:t>缺氧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华文新魏"/>
              </a:rPr>
              <a:t>/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华文新魏"/>
              </a:rPr>
              <a:t>低氧（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华文新魏"/>
              </a:rPr>
              <a:t>hypoxia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华文新魏"/>
              </a:rPr>
              <a:t>）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219320" y="2286000"/>
            <a:ext cx="61722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914400" y="1447920"/>
            <a:ext cx="73152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华文新魏"/>
              </a:rPr>
              <a:t>第二节 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华文新魏"/>
              </a:rPr>
              <a:t>缺氧的类型、原因和发病机制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7093080" y="242100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47680" y="2205000"/>
            <a:ext cx="1030320" cy="58140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5b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空气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740720" y="1773360"/>
            <a:ext cx="1085760" cy="1068840"/>
          </a:xfrm>
          <a:prstGeom prst="rect">
            <a:avLst/>
          </a:prstGeom>
          <a:solidFill>
            <a:srgbClr val="ffcc99"/>
          </a:solidFill>
          <a:ln w="0">
            <a:noFill/>
          </a:ln>
          <a:effectLst>
            <a:outerShdw dist="17819" dir="2700000" blurRad="0" rotWithShape="0">
              <a:srgbClr val="98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组织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细胞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47640" y="2205000"/>
            <a:ext cx="1511640" cy="58140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5b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外呼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43280" y="249228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16000" y="256536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316160" y="69228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缺氧的类型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2240" y="3449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3348000" y="2852640"/>
            <a:ext cx="1828800" cy="1800720"/>
            <a:chOff x="3348000" y="2852640"/>
            <a:chExt cx="1828800" cy="1800720"/>
          </a:xfrm>
        </p:grpSpPr>
        <p:sp>
          <p:nvSpPr>
            <p:cNvPr id="211" name=""/>
            <p:cNvSpPr/>
            <p:nvPr/>
          </p:nvSpPr>
          <p:spPr>
            <a:xfrm>
              <a:off x="4414680" y="2852640"/>
              <a:ext cx="0" cy="609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348000" y="3462120"/>
              <a:ext cx="1828800" cy="1191240"/>
            </a:xfrm>
            <a:prstGeom prst="rect">
              <a:avLst/>
            </a:prstGeom>
            <a:noFill/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血液性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  </a:t>
              </a:r>
              <a:r>
                <a:rPr b="1" lang="zh-CN" sz="36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缺氧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5508720" y="2781360"/>
            <a:ext cx="1752480" cy="1838880"/>
            <a:chOff x="5508720" y="2781360"/>
            <a:chExt cx="1752480" cy="1838880"/>
          </a:xfrm>
        </p:grpSpPr>
        <p:sp>
          <p:nvSpPr>
            <p:cNvPr id="214" name=""/>
            <p:cNvSpPr/>
            <p:nvPr/>
          </p:nvSpPr>
          <p:spPr>
            <a:xfrm>
              <a:off x="6443640" y="2781360"/>
              <a:ext cx="0" cy="630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508720" y="3429000"/>
              <a:ext cx="1752480" cy="1191240"/>
            </a:xfrm>
            <a:prstGeom prst="rect">
              <a:avLst/>
            </a:prstGeom>
            <a:noFill/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循环性  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  </a:t>
              </a:r>
              <a:r>
                <a:rPr b="1" lang="zh-CN" sz="36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缺氧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684360" y="2997360"/>
            <a:ext cx="1752480" cy="1626480"/>
            <a:chOff x="684360" y="2997360"/>
            <a:chExt cx="1752480" cy="1626480"/>
          </a:xfrm>
        </p:grpSpPr>
        <p:sp>
          <p:nvSpPr>
            <p:cNvPr id="217" name=""/>
            <p:cNvSpPr/>
            <p:nvPr/>
          </p:nvSpPr>
          <p:spPr>
            <a:xfrm>
              <a:off x="684360" y="3432600"/>
              <a:ext cx="1752480" cy="1191240"/>
            </a:xfrm>
            <a:prstGeom prst="rect">
              <a:avLst/>
            </a:prstGeom>
            <a:noFill/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低张性 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  </a:t>
              </a:r>
              <a:r>
                <a:rPr b="1" lang="zh-CN" sz="36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缺氧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370160" y="2997360"/>
              <a:ext cx="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7764480" y="2781360"/>
            <a:ext cx="1076400" cy="1770840"/>
            <a:chOff x="7764480" y="2781360"/>
            <a:chExt cx="1076400" cy="1770840"/>
          </a:xfrm>
        </p:grpSpPr>
        <p:sp>
          <p:nvSpPr>
            <p:cNvPr id="220" name=""/>
            <p:cNvSpPr/>
            <p:nvPr/>
          </p:nvSpPr>
          <p:spPr>
            <a:xfrm flipH="1">
              <a:off x="8244000" y="2781360"/>
              <a:ext cx="33120" cy="665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764480" y="3360960"/>
              <a:ext cx="1076400" cy="1191240"/>
            </a:xfrm>
            <a:prstGeom prst="rect">
              <a:avLst/>
            </a:prstGeom>
            <a:noFill/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组织性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  </a:t>
              </a:r>
              <a:r>
                <a:rPr b="1" lang="zh-CN" sz="36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缺氧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371760" y="1876320"/>
            <a:ext cx="1981440" cy="1203480"/>
            <a:chOff x="3371760" y="1876320"/>
            <a:chExt cx="1981440" cy="1203480"/>
          </a:xfrm>
        </p:grpSpPr>
        <p:sp>
          <p:nvSpPr>
            <p:cNvPr id="223" name=""/>
            <p:cNvSpPr/>
            <p:nvPr/>
          </p:nvSpPr>
          <p:spPr>
            <a:xfrm>
              <a:off x="3371760" y="1876320"/>
              <a:ext cx="1981440" cy="120348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  <a:effectLst>
              <a:outerShdw dist="17819" dir="2700000" blurRad="0" rotWithShape="0">
                <a:srgbClr val="98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1" lang="zh-CN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 +Hb     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HbO</a:t>
              </a:r>
              <a:r>
                <a:rPr b="1" lang="zh-CN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600360" y="263808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5962680" y="1800360"/>
            <a:ext cx="1130400" cy="10688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血液循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292720" y="2421000"/>
            <a:ext cx="6001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64560" y="69228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供氧用氧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609120" y="1828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28840" indent="0">
              <a:lnSpc>
                <a:spcPct val="14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华文新魏"/>
                <a:ea typeface="华文新魏"/>
              </a:rPr>
              <a:t>（一）定义</a:t>
            </a:r>
            <a:r>
              <a:rPr b="1" lang="zh-CN" sz="4000" spc="-1" strike="noStrike">
                <a:solidFill>
                  <a:srgbClr val="66ff33"/>
                </a:solidFill>
                <a:latin typeface="Arial"/>
                <a:ea typeface="华文新魏"/>
              </a:rPr>
              <a:t>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142884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ff"/>
                </a:solidFill>
                <a:latin typeface="Arial"/>
                <a:ea typeface="华文新魏"/>
              </a:rPr>
              <a:t>      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PaO</a:t>
            </a:r>
            <a:r>
              <a:rPr b="1" lang="zh-CN" sz="3600" spc="-1" strike="noStrike" baseline="-25000">
                <a:solidFill>
                  <a:srgbClr val="ffffff"/>
                </a:solidFill>
                <a:latin typeface="Arial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↓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为特征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20" y="914400"/>
            <a:ext cx="822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一、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低张性缺氧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971640" y="3789360"/>
            <a:ext cx="678168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PaO</a:t>
            </a:r>
            <a:r>
              <a:rPr b="1" lang="zh-CN" sz="36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↓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，又称低张性低氧血症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        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539640" y="2060640"/>
            <a:ext cx="77724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ff"/>
                </a:solidFill>
                <a:latin typeface="楷体_GB2312"/>
                <a:ea typeface="楷体_GB2312"/>
              </a:rPr>
              <a:t>1.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 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吸入气中</a:t>
            </a:r>
            <a:r>
              <a:rPr b="0" lang="zh-CN" sz="4000" spc="-1" strike="noStrike">
                <a:solidFill>
                  <a:srgbClr val="ffff00"/>
                </a:solidFill>
                <a:latin typeface="Arial"/>
                <a:ea typeface="华文新魏"/>
              </a:rPr>
              <a:t>PO</a:t>
            </a:r>
            <a:r>
              <a:rPr b="0" lang="zh-CN" sz="4000" spc="-1" strike="noStrike" baseline="-25000">
                <a:solidFill>
                  <a:srgbClr val="ffff00"/>
                </a:solidFill>
                <a:latin typeface="Arial"/>
                <a:ea typeface="华文新魏"/>
              </a:rPr>
              <a:t>2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过低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39640" y="328464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ff"/>
                </a:solidFill>
                <a:latin typeface="楷体_GB2312"/>
                <a:ea typeface="楷体_GB2312"/>
              </a:rPr>
              <a:t>2.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外呼吸功能障碍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79280" y="4292640"/>
            <a:ext cx="6782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571680" indent="-190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ff"/>
                </a:solidFill>
                <a:latin typeface="楷体_GB2312"/>
                <a:ea typeface="楷体_GB2312"/>
              </a:rPr>
              <a:t>3.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静脉血分流入动脉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ff33"/>
                </a:solidFill>
                <a:latin typeface="华文新魏"/>
                <a:ea typeface="华文新魏"/>
              </a:rPr>
              <a:t>（二）原因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5867280" y="2205000"/>
          <a:ext cx="1932120" cy="273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2205000"/>
                    <a:ext cx="1932120" cy="273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7" name=""/>
          <p:cNvGraphicFramePr/>
          <p:nvPr/>
        </p:nvGraphicFramePr>
        <p:xfrm>
          <a:off x="5867280" y="2205000"/>
          <a:ext cx="1955880" cy="2766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67280" y="2205000"/>
                    <a:ext cx="1955880" cy="27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9" name="">
            <a:hlinkClick r:id="rId5" action="ppaction://hlinksldjump"/>
          </p:cNvPr>
          <p:cNvSpPr/>
          <p:nvPr/>
        </p:nvSpPr>
        <p:spPr>
          <a:xfrm>
            <a:off x="5416560" y="2171880"/>
            <a:ext cx="184320" cy="641160"/>
          </a:xfrm>
          <a:custGeom>
            <a:avLst/>
            <a:gdLst>
              <a:gd name="textAreaLeft" fmla="*/ 11880 w 184320"/>
              <a:gd name="textAreaRight" fmla="*/ 172440 w 184320"/>
              <a:gd name="textAreaTop" fmla="*/ 11880 h 641160"/>
              <a:gd name="textAreaBottom" fmla="*/ 629280 h 641160"/>
            </a:gdLst>
            <a:ahLst/>
            <a:rect l="textAreaLeft" t="textAreaTop" r="textAreaRight" b="textAreaBottom"/>
            <a:pathLst>
              <a:path w="21600" h="75032">
                <a:moveTo>
                  <a:pt x="0" y="0"/>
                </a:moveTo>
                <a:lnTo>
                  <a:pt x="21600" y="0"/>
                </a:lnTo>
                <a:lnTo>
                  <a:pt x="21600" y="75032"/>
                </a:lnTo>
                <a:lnTo>
                  <a:pt x="0" y="75032"/>
                </a:lnTo>
                <a:close/>
              </a:path>
              <a:path fill="lightenLess" w="21600" h="750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75032">
                <a:moveTo>
                  <a:pt x="21600" y="0"/>
                </a:moveTo>
                <a:lnTo>
                  <a:pt x="21600" y="75032"/>
                </a:lnTo>
                <a:lnTo>
                  <a:pt x="20200" y="73632"/>
                </a:lnTo>
                <a:lnTo>
                  <a:pt x="20200" y="1400"/>
                </a:lnTo>
                <a:close/>
              </a:path>
              <a:path fill="darkenLess" w="21600" h="75032">
                <a:moveTo>
                  <a:pt x="21600" y="75032"/>
                </a:moveTo>
                <a:lnTo>
                  <a:pt x="0" y="75032"/>
                </a:lnTo>
                <a:lnTo>
                  <a:pt x="1400" y="73632"/>
                </a:lnTo>
                <a:lnTo>
                  <a:pt x="20200" y="73632"/>
                </a:lnTo>
                <a:close/>
              </a:path>
              <a:path fill="lighten" w="21600" h="75032">
                <a:moveTo>
                  <a:pt x="0" y="75032"/>
                </a:moveTo>
                <a:lnTo>
                  <a:pt x="0" y="0"/>
                </a:lnTo>
                <a:lnTo>
                  <a:pt x="1400" y="1400"/>
                </a:lnTo>
                <a:lnTo>
                  <a:pt x="1400" y="73632"/>
                </a:lnTo>
                <a:close/>
              </a:path>
              <a:path fill="darken" w="21600" h="75032">
                <a:moveTo>
                  <a:pt x="3794" y="30509"/>
                </a:moveTo>
                <a:lnTo>
                  <a:pt x="17806" y="37516"/>
                </a:lnTo>
                <a:lnTo>
                  <a:pt x="3794" y="44522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3160" y="990720"/>
            <a:ext cx="6559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ff33"/>
                </a:solidFill>
                <a:latin typeface="华文新魏"/>
                <a:ea typeface="华文新魏"/>
              </a:rPr>
              <a:t>（三）血氧变化 的特点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250920" y="2205000"/>
          <a:ext cx="8424720" cy="1009800"/>
        </p:xfrm>
        <a:graphic>
          <a:graphicData uri="http://schemas.openxmlformats.org/drawingml/2006/table">
            <a:tbl>
              <a:tblPr/>
              <a:tblGrid>
                <a:gridCol w="1638360"/>
                <a:gridCol w="1139760"/>
                <a:gridCol w="1852560"/>
                <a:gridCol w="1230120"/>
                <a:gridCol w="1132200"/>
                <a:gridCol w="1431720"/>
              </a:tblGrid>
              <a:tr h="1456920"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ypes of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hypoxia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O</a:t>
                      </a:r>
                      <a:r>
                        <a:rPr b="0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血氧容量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O</a:t>
                      </a:r>
                      <a:r>
                        <a:rPr b="0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O</a:t>
                      </a:r>
                      <a:r>
                        <a:rPr b="0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A-V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血氧含量差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242" name=""/>
          <p:cNvGraphicFramePr/>
          <p:nvPr/>
        </p:nvGraphicFramePr>
        <p:xfrm>
          <a:off x="250920" y="3213000"/>
          <a:ext cx="8424720" cy="1065240"/>
        </p:xfrm>
        <a:graphic>
          <a:graphicData uri="http://schemas.openxmlformats.org/drawingml/2006/table">
            <a:tbl>
              <a:tblPr/>
              <a:tblGrid>
                <a:gridCol w="1584360"/>
                <a:gridCol w="1141200"/>
                <a:gridCol w="1865520"/>
                <a:gridCol w="1252440"/>
                <a:gridCol w="1139760"/>
                <a:gridCol w="144144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低张性 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poxia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↓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 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1908000" y="2492280"/>
            <a:ext cx="1346400" cy="476280"/>
          </a:xfrm>
          <a:prstGeom prst="rect">
            <a:avLst/>
          </a:prstGeom>
          <a:gradFill rotWithShape="0">
            <a:gsLst>
              <a:gs pos="0">
                <a:srgbClr val="461700"/>
              </a:gs>
              <a:gs pos="50000">
                <a:srgbClr val="993300"/>
              </a:gs>
              <a:gs pos="100000">
                <a:srgbClr val="461700"/>
              </a:gs>
            </a:gsLst>
            <a:lin ang="10800000"/>
          </a:gra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908000" y="2997360"/>
            <a:ext cx="1346400" cy="2244600"/>
          </a:xfrm>
          <a:prstGeom prst="rect">
            <a:avLst/>
          </a:prstGeom>
          <a:gradFill rotWithShape="0">
            <a:gsLst>
              <a:gs pos="0">
                <a:srgbClr val="8f4949"/>
              </a:gs>
              <a:gs pos="50000">
                <a:srgbClr val="ff8383"/>
              </a:gs>
              <a:gs pos="100000">
                <a:srgbClr val="8f4949"/>
              </a:gs>
            </a:gsLst>
            <a:lin ang="10800000"/>
          </a:gradFill>
          <a:ln w="9360">
            <a:solidFill>
              <a:srgbClr val="ff83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419640" y="4076640"/>
            <a:ext cx="12668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b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2406600"/>
            <a:ext cx="198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2.6g/d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906560" y="5454720"/>
            <a:ext cx="126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正常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5435640" y="2421000"/>
            <a:ext cx="3249720" cy="2666880"/>
            <a:chOff x="5435640" y="2421000"/>
            <a:chExt cx="3249720" cy="2666880"/>
          </a:xfrm>
        </p:grpSpPr>
        <p:sp>
          <p:nvSpPr>
            <p:cNvPr id="249" name=""/>
            <p:cNvSpPr/>
            <p:nvPr/>
          </p:nvSpPr>
          <p:spPr>
            <a:xfrm>
              <a:off x="5435640" y="3564000"/>
              <a:ext cx="1295640" cy="1523880"/>
            </a:xfrm>
            <a:prstGeom prst="rect">
              <a:avLst/>
            </a:prstGeom>
            <a:gradFill rotWithShape="0">
              <a:gsLst>
                <a:gs pos="0">
                  <a:srgbClr val="8f4949"/>
                </a:gs>
                <a:gs pos="50000">
                  <a:srgbClr val="ff8383"/>
                </a:gs>
                <a:gs pos="100000">
                  <a:srgbClr val="8f4949"/>
                </a:gs>
              </a:gsLst>
              <a:lin ang="10800000"/>
            </a:gradFill>
            <a:ln w="9360">
              <a:solidFill>
                <a:srgbClr val="ff83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435640" y="2421000"/>
              <a:ext cx="1295640" cy="1143000"/>
            </a:xfrm>
            <a:prstGeom prst="rect">
              <a:avLst/>
            </a:prstGeom>
            <a:gradFill rotWithShape="0">
              <a:gsLst>
                <a:gs pos="0">
                  <a:srgbClr val="461700"/>
                </a:gs>
                <a:gs pos="50000">
                  <a:srgbClr val="993300"/>
                </a:gs>
                <a:gs pos="100000">
                  <a:srgbClr val="461700"/>
                </a:gs>
              </a:gsLst>
              <a:lin ang="10800000"/>
            </a:gra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26360" y="2878200"/>
              <a:ext cx="6858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008840" y="2608200"/>
              <a:ext cx="1676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≥</a:t>
              </a: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5g/dl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3" name=""/>
          <p:cNvSpPr/>
          <p:nvPr/>
        </p:nvSpPr>
        <p:spPr>
          <a:xfrm>
            <a:off x="4716360" y="5445000"/>
            <a:ext cx="247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低张性缺氧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11280" y="76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ff33"/>
                </a:solidFill>
                <a:latin typeface="Times New Roman"/>
                <a:ea typeface="华文新魏"/>
              </a:rPr>
              <a:t>（四）表现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419640" y="2565360"/>
            <a:ext cx="11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H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3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9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4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468360" y="907560"/>
            <a:ext cx="38815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42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发绀 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华文新魏"/>
              </a:rPr>
              <a:t>(cyanosis)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842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毛细血管中脱氧血红蛋白≥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5g/dl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，使皮肤、黏膜呈青紫色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4500720" y="981000"/>
            <a:ext cx="4105080" cy="348624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1763640" y="4869000"/>
            <a:ext cx="5184720" cy="1191240"/>
          </a:xfrm>
          <a:prstGeom prst="rect">
            <a:avLst/>
          </a:prstGeom>
          <a:gradFill rotWithShape="0">
            <a:gsLst>
              <a:gs pos="0">
                <a:srgbClr val="755e2f"/>
              </a:gs>
              <a:gs pos="50000">
                <a:srgbClr val="ffcc66"/>
              </a:gs>
              <a:gs pos="100000">
                <a:srgbClr val="755e2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缺氧不一定都有发绀，发绀也不一定都有缺氧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1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380880" y="2286000"/>
            <a:ext cx="83059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3302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华文新魏"/>
                <a:ea typeface="华文新魏"/>
              </a:rPr>
              <a:t>（一） 定义 ：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Hb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数量↓或性质改变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547640" y="3573360"/>
            <a:ext cx="67820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PaO</a:t>
            </a:r>
            <a:r>
              <a:rPr b="1" lang="zh-CN" sz="36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不变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，又称等张性低氧血症         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33520" y="1066680"/>
            <a:ext cx="7619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二、 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华文新魏"/>
              </a:rPr>
              <a:t>血液性缺氧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468360" y="1700280"/>
            <a:ext cx="8305920" cy="281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00"/>
                </a:solidFill>
                <a:latin typeface="华文新魏"/>
                <a:ea typeface="华文新魏"/>
              </a:rPr>
              <a:t>第五章 缺  氧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00"/>
                </a:solidFill>
                <a:latin typeface="Arial"/>
                <a:ea typeface="华文新魏"/>
              </a:rPr>
              <a:t>Hypoxia</a:t>
            </a:r>
            <a:r>
              <a:rPr b="0" lang="zh-CN" sz="6000" spc="-1" strike="noStrike">
                <a:solidFill>
                  <a:srgbClr val="ff9900"/>
                </a:solidFill>
                <a:latin typeface="Times New Roman"/>
                <a:ea typeface="黑体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4572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华文新魏"/>
                <a:ea typeface="华文新魏"/>
              </a:rPr>
              <a:t>（</a:t>
            </a:r>
            <a:r>
              <a:rPr b="1" lang="zh-CN" sz="4400" spc="-1" strike="noStrike">
                <a:solidFill>
                  <a:srgbClr val="66ff33"/>
                </a:solidFill>
                <a:latin typeface="华文新魏"/>
                <a:ea typeface="华文新魏"/>
              </a:rPr>
              <a:t>二）原因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752480" y="3885840"/>
            <a:ext cx="4648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762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ffff"/>
                </a:solidFill>
                <a:latin typeface="Arial"/>
                <a:ea typeface="华文新魏"/>
              </a:rPr>
              <a:t>2.</a:t>
            </a:r>
            <a:r>
              <a:rPr b="0" lang="zh-CN" sz="4000" spc="-1" strike="noStrike">
                <a:solidFill>
                  <a:srgbClr val="f9f42e"/>
                </a:solidFill>
                <a:latin typeface="Arial"/>
                <a:ea typeface="华文新魏"/>
              </a:rPr>
              <a:t> </a:t>
            </a:r>
            <a:r>
              <a:rPr b="0" lang="zh-CN" sz="4000" spc="-1" strike="noStrike">
                <a:solidFill>
                  <a:srgbClr val="00ffff"/>
                </a:solidFill>
                <a:latin typeface="Arial"/>
                <a:ea typeface="华文新魏"/>
              </a:rPr>
              <a:t>Hb</a:t>
            </a:r>
            <a:r>
              <a:rPr b="1" lang="zh-CN" sz="4000" spc="-1" strike="noStrike">
                <a:solidFill>
                  <a:srgbClr val="00ffff"/>
                </a:solidFill>
                <a:latin typeface="华文新魏"/>
                <a:ea typeface="华文新魏"/>
              </a:rPr>
              <a:t>性质改变：</a:t>
            </a:r>
            <a:r>
              <a:rPr b="1" lang="zh-CN" sz="4000" spc="-1" strike="noStrike">
                <a:solidFill>
                  <a:srgbClr val="fc2cf2"/>
                </a:solidFill>
                <a:latin typeface="华文新魏"/>
                <a:ea typeface="华文新魏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62120" y="1905120"/>
            <a:ext cx="83818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390680" indent="-457200">
              <a:lnSpc>
                <a:spcPct val="100000"/>
              </a:lnSpc>
              <a:spcBef>
                <a:spcPts val="1001"/>
              </a:spcBef>
              <a:buClr>
                <a:srgbClr val="00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ffff"/>
                </a:solidFill>
                <a:latin typeface="Arial"/>
                <a:ea typeface="华文新魏"/>
              </a:rPr>
              <a:t>Hb</a:t>
            </a:r>
            <a:r>
              <a:rPr b="1" lang="zh-CN" sz="4000" spc="-1" strike="noStrike">
                <a:solidFill>
                  <a:srgbClr val="00ffff"/>
                </a:solidFill>
                <a:latin typeface="华文新魏"/>
                <a:ea typeface="华文新魏"/>
              </a:rPr>
              <a:t>数量减少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2" marL="139068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    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贫血最常见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(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苍白）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468360" y="1052640"/>
            <a:ext cx="8675640" cy="50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ff"/>
                </a:solidFill>
                <a:latin typeface="Wingdings"/>
                <a:ea typeface="Wingdings"/>
              </a:rPr>
              <a:t>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CO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中毒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HbCO: 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☆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亲和力高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;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☆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抑制糖酵解，氧离曲线左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☆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增加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O</a:t>
            </a:r>
            <a:r>
              <a:rPr b="1" lang="zh-CN" sz="36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和血红素的亲和性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</a:t>
            </a: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皮肤粘膜：樱桃红色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  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5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5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" dur="500"/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838080" y="990720"/>
            <a:ext cx="701064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ff"/>
                </a:solidFill>
                <a:latin typeface="Wingdings"/>
                <a:ea typeface="Wingdings"/>
              </a:rPr>
              <a:t>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高铁血红蛋白血症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467720" y="4572000"/>
            <a:ext cx="178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肠源性发绀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6477120" y="2514600"/>
            <a:ext cx="1662120" cy="2501640"/>
            <a:chOff x="6477120" y="2514600"/>
            <a:chExt cx="1662120" cy="2501640"/>
          </a:xfrm>
        </p:grpSpPr>
        <p:sp>
          <p:nvSpPr>
            <p:cNvPr id="269" name=""/>
            <p:cNvSpPr/>
            <p:nvPr/>
          </p:nvSpPr>
          <p:spPr>
            <a:xfrm>
              <a:off x="6607080" y="2590920"/>
              <a:ext cx="777960" cy="68580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cc33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553080" y="2514600"/>
              <a:ext cx="519120" cy="4572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e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+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321680" y="2590920"/>
              <a:ext cx="777600" cy="68580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cc33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620120" y="2514600"/>
              <a:ext cx="519120" cy="4572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e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+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541920" y="3276720"/>
              <a:ext cx="779760" cy="68580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cc33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477120" y="3505320"/>
              <a:ext cx="519120" cy="4572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e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+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256520" y="3276720"/>
              <a:ext cx="777960" cy="68580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cc33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515360" y="3581280"/>
              <a:ext cx="519120" cy="4572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e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+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480000" y="4495680"/>
              <a:ext cx="1637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Hb: </a:t>
              </a:r>
              <a:r>
                <a:rPr b="1" lang="zh-CN" sz="2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</a:t>
              </a: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1" lang="zh-CN" sz="2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</a:t>
              </a: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1072080" y="2465280"/>
            <a:ext cx="4741920" cy="1328400"/>
            <a:chOff x="1072080" y="2465280"/>
            <a:chExt cx="4741920" cy="1328400"/>
          </a:xfrm>
        </p:grpSpPr>
        <p:sp>
          <p:nvSpPr>
            <p:cNvPr id="279" name=""/>
            <p:cNvSpPr/>
            <p:nvPr/>
          </p:nvSpPr>
          <p:spPr>
            <a:xfrm>
              <a:off x="1072080" y="2760480"/>
              <a:ext cx="1490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 Narrow"/>
                  <a:ea typeface="华文新魏"/>
                </a:rPr>
                <a:t>Hb-Fe</a:t>
              </a:r>
              <a:r>
                <a:rPr b="1" lang="en-US" sz="3600" spc="-1" strike="noStrike" baseline="30000">
                  <a:solidFill>
                    <a:srgbClr val="ffffff"/>
                  </a:solidFill>
                  <a:latin typeface="Arial Narrow"/>
                  <a:ea typeface="华文新魏"/>
                </a:rPr>
                <a:t>2+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661120" y="3047760"/>
              <a:ext cx="1125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886560" y="2852640"/>
              <a:ext cx="192744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 Narrow"/>
                  <a:ea typeface="华文新魏"/>
                </a:rPr>
                <a:t>HbFe</a:t>
              </a:r>
              <a:r>
                <a:rPr b="1" lang="en-US" sz="3600" spc="-1" strike="noStrike" baseline="30000">
                  <a:solidFill>
                    <a:srgbClr val="ffffff"/>
                  </a:solidFill>
                  <a:latin typeface="Arial Narrow"/>
                  <a:ea typeface="华文新魏"/>
                </a:rPr>
                <a:t>3+</a:t>
              </a:r>
              <a:r>
                <a:rPr b="1" lang="en-US" sz="3600" spc="-1" strike="noStrike">
                  <a:solidFill>
                    <a:srgbClr val="ffffff"/>
                  </a:solidFill>
                  <a:latin typeface="Arial Narrow"/>
                  <a:ea typeface="华文新魏"/>
                </a:rPr>
                <a:t>OH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>
              <a:off x="2660760" y="3276360"/>
              <a:ext cx="1045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761560" y="246528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Arial Narrow"/>
                  <a:ea typeface="华文新魏"/>
                </a:rPr>
                <a:t>氧化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846520" y="315108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Arial Narrow"/>
                  <a:ea typeface="华文新魏"/>
                </a:rPr>
                <a:t>还原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5" name=""/>
          <p:cNvSpPr/>
          <p:nvPr/>
        </p:nvSpPr>
        <p:spPr>
          <a:xfrm>
            <a:off x="3751560" y="3352680"/>
            <a:ext cx="201852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9900"/>
                </a:solidFill>
                <a:latin typeface="华文新魏"/>
                <a:ea typeface="华文新魏"/>
              </a:rPr>
              <a:t>   </a:t>
            </a:r>
            <a:r>
              <a:rPr b="1" lang="zh-CN" sz="3600" spc="-1" strike="noStrike">
                <a:solidFill>
                  <a:srgbClr val="cc9900"/>
                </a:solidFill>
                <a:latin typeface="华文新魏"/>
                <a:ea typeface="华文新魏"/>
              </a:rPr>
              <a:t>（咖啡色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89520" y="170028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原因：亚硝酸盐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4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华文新魏"/>
                <a:ea typeface="华文新魏"/>
              </a:rPr>
              <a:t>（三）血氧变化 的特点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324000" y="2781360"/>
          <a:ext cx="8569080" cy="1162080"/>
        </p:xfrm>
        <a:graphic>
          <a:graphicData uri="http://schemas.openxmlformats.org/drawingml/2006/table">
            <a:tbl>
              <a:tblPr/>
              <a:tblGrid>
                <a:gridCol w="1726920"/>
                <a:gridCol w="1081080"/>
                <a:gridCol w="1871640"/>
                <a:gridCol w="1224000"/>
                <a:gridCol w="1152720"/>
                <a:gridCol w="1512720"/>
              </a:tblGrid>
              <a:tr h="117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低张性 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poxia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↓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（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）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289" name=""/>
          <p:cNvGraphicFramePr/>
          <p:nvPr/>
        </p:nvGraphicFramePr>
        <p:xfrm>
          <a:off x="324000" y="3933720"/>
          <a:ext cx="8569080" cy="1162080"/>
        </p:xfrm>
        <a:graphic>
          <a:graphicData uri="http://schemas.openxmlformats.org/drawingml/2006/table">
            <a:tbl>
              <a:tblPr/>
              <a:tblGrid>
                <a:gridCol w="1726920"/>
                <a:gridCol w="1095480"/>
                <a:gridCol w="1857240"/>
                <a:gridCol w="1224000"/>
                <a:gridCol w="1152720"/>
                <a:gridCol w="1512720"/>
              </a:tblGrid>
              <a:tr h="117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血液性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poxia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↓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290" name=""/>
          <p:cNvGraphicFramePr/>
          <p:nvPr/>
        </p:nvGraphicFramePr>
        <p:xfrm>
          <a:off x="324000" y="1557360"/>
          <a:ext cx="8569080" cy="1231920"/>
        </p:xfrm>
        <a:graphic>
          <a:graphicData uri="http://schemas.openxmlformats.org/drawingml/2006/table">
            <a:tbl>
              <a:tblPr/>
              <a:tblGrid>
                <a:gridCol w="1709640"/>
                <a:gridCol w="1139760"/>
                <a:gridCol w="1851120"/>
                <a:gridCol w="1230120"/>
                <a:gridCol w="1131840"/>
                <a:gridCol w="1506600"/>
              </a:tblGrid>
              <a:tr h="1456920"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ypes of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hypoxia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O</a:t>
                      </a:r>
                      <a:r>
                        <a:rPr b="0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血氧容量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</a:t>
                      </a:r>
                      <a:r>
                        <a:rPr b="0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O</a:t>
                      </a:r>
                      <a:r>
                        <a:rPr b="0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-V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氧含量差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3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cc66"/>
                </a:solidFill>
                <a:latin typeface="华文新魏"/>
                <a:ea typeface="华文新魏"/>
              </a:rPr>
              <a:t>A-VΔCO</a:t>
            </a:r>
            <a:r>
              <a:rPr b="1" i="1" lang="en-US" sz="4800" spc="-1" strike="noStrike" baseline="-25000">
                <a:solidFill>
                  <a:srgbClr val="ffcc66"/>
                </a:solidFill>
                <a:latin typeface="华文新魏"/>
                <a:ea typeface="华文新魏"/>
              </a:rPr>
              <a:t>2</a:t>
            </a:r>
            <a:r>
              <a:rPr b="0" lang="en-US" sz="4800" spc="-1" strike="noStrike">
                <a:solidFill>
                  <a:srgbClr val="ffcc66"/>
                </a:solidFill>
                <a:latin typeface="华文新魏"/>
                <a:ea typeface="华文新魏"/>
              </a:rPr>
              <a:t>↓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07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CO</a:t>
            </a:r>
            <a:r>
              <a:rPr b="1" lang="zh-CN" sz="36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↓→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释放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O</a:t>
            </a:r>
            <a:r>
              <a:rPr b="0" lang="zh-CN" sz="36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后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PO</a:t>
            </a:r>
            <a:r>
              <a:rPr b="0" lang="zh-CN" sz="36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降低较快→不能维持血液与细胞间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O</a:t>
            </a:r>
            <a:r>
              <a:rPr b="0" lang="zh-CN" sz="36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的浓度差→弥散较慢→组织细胞缺氧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/>
          </p:nvPr>
        </p:nvSpPr>
        <p:spPr>
          <a:xfrm>
            <a:off x="380520" y="220968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288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(</a:t>
            </a:r>
            <a:r>
              <a:rPr b="1" lang="zh-CN" sz="4000" spc="-1" strike="noStrike">
                <a:solidFill>
                  <a:srgbClr val="66ff33"/>
                </a:solidFill>
                <a:latin typeface="华文新魏"/>
                <a:ea typeface="华文新魏"/>
              </a:rPr>
              <a:t>一）定义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142884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       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组织血流量减少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142884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       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低动力缺氧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85800" y="1066680"/>
            <a:ext cx="7010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三、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华文新魏"/>
              </a:rPr>
              <a:t>循环性缺氧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3520" y="811080"/>
            <a:ext cx="35049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华文新魏"/>
                <a:ea typeface="华文新魏"/>
              </a:rPr>
              <a:t>（二）原因</a:t>
            </a:r>
            <a:r>
              <a:rPr b="1" lang="zh-CN" sz="4000" spc="-1" strike="noStrike">
                <a:solidFill>
                  <a:srgbClr val="66ff33"/>
                </a:solidFill>
                <a:latin typeface="华文新魏"/>
                <a:ea typeface="华文新魏"/>
              </a:rPr>
              <a:t>: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24000" y="1707840"/>
            <a:ext cx="7989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just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全身性</a:t>
            </a:r>
            <a:r>
              <a:rPr b="1" lang="zh-CN" sz="3200" spc="-1" strike="noStrike">
                <a:solidFill>
                  <a:srgbClr val="66ff33"/>
                </a:solidFill>
                <a:latin typeface="华文新魏"/>
                <a:ea typeface="华文新魏"/>
              </a:rPr>
              <a:t>循环障碍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4360" y="365112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2251"/>
              </a:spcBef>
              <a:buClr>
                <a:srgbClr val="00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局部性</a:t>
            </a: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循环障碍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172200" y="3124080"/>
            <a:ext cx="228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340520" y="2597040"/>
            <a:ext cx="3895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休克、心力衰竭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799160" y="4659480"/>
            <a:ext cx="101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00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血栓、炎症、动脉粥样硬化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8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3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华文新魏"/>
                <a:ea typeface="华文新魏"/>
              </a:rPr>
              <a:t>（三）血氧变化 的特点</a:t>
            </a:r>
            <a:r>
              <a:rPr b="1" lang="zh-CN" sz="4000" spc="-1" strike="noStrike">
                <a:solidFill>
                  <a:srgbClr val="66ff33"/>
                </a:solidFill>
                <a:latin typeface="华文新魏"/>
                <a:ea typeface="华文新魏"/>
              </a:rPr>
              <a:t>: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380880" y="3200400"/>
          <a:ext cx="8458200" cy="820800"/>
        </p:xfrm>
        <a:graphic>
          <a:graphicData uri="http://schemas.openxmlformats.org/drawingml/2006/table">
            <a:tbl>
              <a:tblPr/>
              <a:tblGrid>
                <a:gridCol w="1598760"/>
                <a:gridCol w="1220760"/>
                <a:gridCol w="1447920"/>
                <a:gridCol w="1447560"/>
                <a:gridCol w="1212840"/>
                <a:gridCol w="153036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低张性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poxi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303" name=""/>
          <p:cNvGraphicFramePr/>
          <p:nvPr/>
        </p:nvGraphicFramePr>
        <p:xfrm>
          <a:off x="380880" y="3983040"/>
          <a:ext cx="8458200" cy="893880"/>
        </p:xfrm>
        <a:graphic>
          <a:graphicData uri="http://schemas.openxmlformats.org/drawingml/2006/table">
            <a:tbl>
              <a:tblPr/>
              <a:tblGrid>
                <a:gridCol w="1598760"/>
                <a:gridCol w="1220760"/>
                <a:gridCol w="1447920"/>
                <a:gridCol w="1447560"/>
                <a:gridCol w="1212840"/>
                <a:gridCol w="153036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血液性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poxi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304" name=""/>
          <p:cNvGraphicFramePr/>
          <p:nvPr/>
        </p:nvGraphicFramePr>
        <p:xfrm>
          <a:off x="380880" y="4869000"/>
          <a:ext cx="8439120" cy="1030320"/>
        </p:xfrm>
        <a:graphic>
          <a:graphicData uri="http://schemas.openxmlformats.org/drawingml/2006/table">
            <a:tbl>
              <a:tblPr/>
              <a:tblGrid>
                <a:gridCol w="1702080"/>
                <a:gridCol w="1171440"/>
                <a:gridCol w="1476360"/>
                <a:gridCol w="1476360"/>
                <a:gridCol w="1236600"/>
                <a:gridCol w="137628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循环性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poxi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33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305" name=""/>
          <p:cNvGraphicFramePr/>
          <p:nvPr/>
        </p:nvGraphicFramePr>
        <p:xfrm>
          <a:off x="395280" y="1916280"/>
          <a:ext cx="8424360" cy="1231560"/>
        </p:xfrm>
        <a:graphic>
          <a:graphicData uri="http://schemas.openxmlformats.org/drawingml/2006/table">
            <a:tbl>
              <a:tblPr/>
              <a:tblGrid>
                <a:gridCol w="1522440"/>
                <a:gridCol w="1311120"/>
                <a:gridCol w="1602720"/>
                <a:gridCol w="1199160"/>
                <a:gridCol w="1265040"/>
                <a:gridCol w="1523880"/>
              </a:tblGrid>
              <a:tr h="1456920"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ypes of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hypoxia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O</a:t>
                      </a:r>
                      <a:r>
                        <a:rPr b="0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血氧容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O</a:t>
                      </a:r>
                      <a:r>
                        <a:rPr b="0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O</a:t>
                      </a:r>
                      <a:r>
                        <a:rPr b="0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A-V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氧含量差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0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ff33"/>
                </a:solidFill>
                <a:latin typeface="Times New Roman"/>
                <a:ea typeface="华文新魏"/>
              </a:rPr>
              <a:t>（四）表现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5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毛细血管脱氧血红蛋白↑→发绀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                       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（心力衰竭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4360" y="3645000"/>
            <a:ext cx="7772400" cy="15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毛细血管血流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↓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→苍白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                       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（失血性休克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7" dur="5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2" dur="50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7" dur="5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2" dur="500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/>
          </p:nvPr>
        </p:nvSpPr>
        <p:spPr>
          <a:xfrm>
            <a:off x="394920" y="2349360"/>
            <a:ext cx="7467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288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黑体"/>
                <a:ea typeface="华文新魏"/>
              </a:rPr>
              <a:t>（</a:t>
            </a:r>
            <a:r>
              <a:rPr b="1" lang="zh-CN" sz="4000" spc="-1" strike="noStrike">
                <a:solidFill>
                  <a:srgbClr val="66ff33"/>
                </a:solidFill>
                <a:latin typeface="黑体"/>
                <a:ea typeface="华文新魏"/>
              </a:rPr>
              <a:t>一）定义：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华文新魏"/>
              </a:rPr>
              <a:t>组织细胞</a:t>
            </a:r>
            <a:r>
              <a:rPr b="1" lang="zh-CN" sz="4000" spc="-1" strike="noStrike">
                <a:solidFill>
                  <a:srgbClr val="66ff33"/>
                </a:solidFill>
                <a:latin typeface="黑体"/>
                <a:ea typeface="华文新魏"/>
              </a:rPr>
              <a:t>利用氧障碍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华文新魏"/>
              </a:rPr>
              <a:t>所引起的缺氧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09480" y="121932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四、 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华文新魏"/>
              </a:rPr>
              <a:t>组织性缺氧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2001240"/>
            <a:ext cx="11268000" cy="19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组织耗</a:t>
            </a:r>
            <a:r>
              <a:rPr b="0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O</a:t>
            </a:r>
            <a:r>
              <a:rPr b="0" lang="zh-CN" sz="3600" spc="-1" strike="noStrike" baseline="-25000">
                <a:solidFill>
                  <a:srgbClr val="ffff00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量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(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动脉血氧含量—静脉血氧含量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)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×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组织血流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279440" y="1125360"/>
            <a:ext cx="57787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组织供</a:t>
            </a:r>
            <a:r>
              <a:rPr b="0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O</a:t>
            </a:r>
            <a:r>
              <a:rPr b="0" lang="zh-CN" sz="3600" spc="-1" strike="noStrike" baseline="-25000">
                <a:solidFill>
                  <a:srgbClr val="ffff00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量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＝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动脉血氧含量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×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组织血流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4221000"/>
            <a:ext cx="93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∴</a:t>
            </a:r>
            <a:r>
              <a:rPr b="0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血氧是反映组织供氧及耗氧的重要指标。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44193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黑体"/>
                <a:ea typeface="华文新魏"/>
              </a:rPr>
              <a:t>（二）</a:t>
            </a:r>
            <a:r>
              <a:rPr b="1" lang="zh-CN" sz="4000" spc="-1" strike="noStrike">
                <a:solidFill>
                  <a:srgbClr val="66ff33"/>
                </a:solidFill>
                <a:latin typeface="Arial"/>
                <a:ea typeface="华文新魏"/>
              </a:rPr>
              <a:t>原因</a:t>
            </a:r>
            <a:r>
              <a:rPr b="1" lang="zh-CN" sz="4000" spc="-1" strike="noStrike">
                <a:solidFill>
                  <a:srgbClr val="66ff33"/>
                </a:solidFill>
                <a:latin typeface="黑体"/>
                <a:ea typeface="华文新魏"/>
              </a:rPr>
              <a:t>：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755640" y="1628280"/>
            <a:ext cx="4772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84600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1.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组织中毒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: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55640" y="2349360"/>
            <a:ext cx="784872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20000"/>
              </a:lnSpc>
              <a:buClr>
                <a:srgbClr val="ffffff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氰化物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:   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氰化高铁细胞色素氧化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ffffff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砷化物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:  (-)p</a:t>
            </a:r>
            <a:r>
              <a:rPr b="1" lang="zh-CN" sz="32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450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; (-)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呼吸链辅酶；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      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(-)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丙酮酸氧化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971640" y="3860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2.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线粒体损伤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: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放射线、细菌毒素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0" y="4941720"/>
            <a:ext cx="8763120" cy="13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3.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呼吸酶合成障碍：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VitB</a:t>
            </a:r>
            <a:r>
              <a:rPr b="0" lang="zh-CN" sz="3600" spc="-1" strike="noStrike" baseline="-25000">
                <a:solidFill>
                  <a:srgbClr val="ffffff"/>
                </a:solidFill>
                <a:latin typeface="Arial"/>
                <a:ea typeface="华文新魏"/>
              </a:rPr>
              <a:t>1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,B</a:t>
            </a:r>
            <a:r>
              <a:rPr b="0" lang="zh-CN" sz="3600" spc="-1" strike="noStrike" baseline="-25000">
                <a:solidFill>
                  <a:srgbClr val="ffffff"/>
                </a:solidFill>
                <a:latin typeface="Arial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,PP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缺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7" dur="5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2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slide(fromLeft)" transition="out">
                                      <p:cBhvr additive="repl">
                                        <p:cTn id="566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5486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华文新魏"/>
                <a:ea typeface="华文新魏"/>
              </a:rPr>
              <a:t>（三）血氧变化 的特点</a:t>
            </a:r>
            <a:r>
              <a:rPr b="1" lang="zh-CN" sz="4000" spc="-1" strike="noStrike">
                <a:solidFill>
                  <a:srgbClr val="66ff33"/>
                </a:solidFill>
                <a:latin typeface="华文新魏"/>
                <a:ea typeface="华文新魏"/>
              </a:rPr>
              <a:t>: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250920" y="1125360"/>
          <a:ext cx="8713800" cy="1082520"/>
        </p:xfrm>
        <a:graphic>
          <a:graphicData uri="http://schemas.openxmlformats.org/drawingml/2006/table">
            <a:tbl>
              <a:tblPr/>
              <a:tblGrid>
                <a:gridCol w="1941480"/>
                <a:gridCol w="974520"/>
                <a:gridCol w="1621080"/>
                <a:gridCol w="1414440"/>
                <a:gridCol w="1465200"/>
                <a:gridCol w="1297080"/>
              </a:tblGrid>
              <a:tr h="1154160"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ypes o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hypoxi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O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血氧容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O</a:t>
                      </a:r>
                      <a:r>
                        <a:rPr b="0" lang="en-US" sz="3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O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A-V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血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氧含量差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318" name=""/>
          <p:cNvGraphicFramePr/>
          <p:nvPr/>
        </p:nvGraphicFramePr>
        <p:xfrm>
          <a:off x="250920" y="2205000"/>
          <a:ext cx="8713800" cy="1030320"/>
        </p:xfrm>
        <a:graphic>
          <a:graphicData uri="http://schemas.openxmlformats.org/drawingml/2006/table">
            <a:tbl>
              <a:tblPr/>
              <a:tblGrid>
                <a:gridCol w="1944720"/>
                <a:gridCol w="1008000"/>
                <a:gridCol w="1584360"/>
                <a:gridCol w="1439640"/>
                <a:gridCol w="1401840"/>
                <a:gridCol w="133524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低张性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poxi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 (or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319" name=""/>
          <p:cNvGraphicFramePr/>
          <p:nvPr/>
        </p:nvGraphicFramePr>
        <p:xfrm>
          <a:off x="250920" y="3276720"/>
          <a:ext cx="8713800" cy="893520"/>
        </p:xfrm>
        <a:graphic>
          <a:graphicData uri="http://schemas.openxmlformats.org/drawingml/2006/table">
            <a:tbl>
              <a:tblPr/>
              <a:tblGrid>
                <a:gridCol w="1944720"/>
                <a:gridCol w="1008000"/>
                <a:gridCol w="1584360"/>
                <a:gridCol w="1439640"/>
                <a:gridCol w="1401840"/>
                <a:gridCol w="133524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血液性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poxi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320" name=""/>
          <p:cNvGraphicFramePr/>
          <p:nvPr/>
        </p:nvGraphicFramePr>
        <p:xfrm>
          <a:off x="250920" y="4151160"/>
          <a:ext cx="8713800" cy="893880"/>
        </p:xfrm>
        <a:graphic>
          <a:graphicData uri="http://schemas.openxmlformats.org/drawingml/2006/table">
            <a:tbl>
              <a:tblPr/>
              <a:tblGrid>
                <a:gridCol w="1944720"/>
                <a:gridCol w="1008000"/>
                <a:gridCol w="1584360"/>
                <a:gridCol w="1439640"/>
                <a:gridCol w="1401840"/>
                <a:gridCol w="133524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循环性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poxi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321" name=""/>
          <p:cNvGraphicFramePr/>
          <p:nvPr/>
        </p:nvGraphicFramePr>
        <p:xfrm>
          <a:off x="250920" y="4989600"/>
          <a:ext cx="8713800" cy="893520"/>
        </p:xfrm>
        <a:graphic>
          <a:graphicData uri="http://schemas.openxmlformats.org/drawingml/2006/table">
            <a:tbl>
              <a:tblPr/>
              <a:tblGrid>
                <a:gridCol w="1944720"/>
                <a:gridCol w="1008000"/>
                <a:gridCol w="1584360"/>
                <a:gridCol w="1439640"/>
                <a:gridCol w="1422360"/>
                <a:gridCol w="131472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组织性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poxi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5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66ff33"/>
                </a:solidFill>
                <a:latin typeface="华文新魏"/>
                <a:ea typeface="华文新魏"/>
              </a:rPr>
              <a:t>(</a:t>
            </a:r>
            <a:r>
              <a:rPr b="0" lang="zh-CN" sz="4800" spc="-1" strike="noStrike">
                <a:solidFill>
                  <a:srgbClr val="66ff33"/>
                </a:solidFill>
                <a:latin typeface="华文新魏"/>
                <a:ea typeface="华文新魏"/>
              </a:rPr>
              <a:t>四）表现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-360" y="2060640"/>
            <a:ext cx="961236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血液氧合血红蛋白↑→皮肤黏膜玫瑰红色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1529640" y="6858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混合性缺氧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132000" y="1557360"/>
            <a:ext cx="2438640" cy="581400"/>
          </a:xfrm>
          <a:prstGeom prst="rect">
            <a:avLst/>
          </a:prstGeom>
          <a:gradFill rotWithShape="0">
            <a:gsLst>
              <a:gs pos="0">
                <a:srgbClr val="9c7d9c"/>
              </a:gs>
              <a:gs pos="50000">
                <a:srgbClr val="ffccff"/>
              </a:gs>
              <a:gs pos="100000">
                <a:srgbClr val="9c7d9c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8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失血性休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1371600" y="2362320"/>
            <a:ext cx="1676520" cy="1571760"/>
            <a:chOff x="1371600" y="2362320"/>
            <a:chExt cx="1676520" cy="1571760"/>
          </a:xfrm>
        </p:grpSpPr>
        <p:sp>
          <p:nvSpPr>
            <p:cNvPr id="327" name=""/>
            <p:cNvSpPr/>
            <p:nvPr/>
          </p:nvSpPr>
          <p:spPr>
            <a:xfrm>
              <a:off x="1371600" y="3352680"/>
              <a:ext cx="1219320" cy="581400"/>
            </a:xfrm>
            <a:prstGeom prst="rect">
              <a:avLst/>
            </a:prstGeom>
            <a:gradFill rotWithShape="0">
              <a:gsLst>
                <a:gs pos="0">
                  <a:srgbClr val="85a6a6"/>
                </a:gs>
                <a:gs pos="50000">
                  <a:srgbClr val="cdffff"/>
                </a:gs>
                <a:gs pos="100000">
                  <a:srgbClr val="85a6a6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7a98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Hb</a:t>
              </a:r>
              <a:r>
                <a:rPr b="1" lang="zh-CN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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2057400" y="2362320"/>
              <a:ext cx="990720" cy="838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059280" y="2492280"/>
            <a:ext cx="2663280" cy="1415160"/>
            <a:chOff x="3059280" y="2492280"/>
            <a:chExt cx="2663280" cy="1415160"/>
          </a:xfrm>
        </p:grpSpPr>
        <p:sp>
          <p:nvSpPr>
            <p:cNvPr id="330" name=""/>
            <p:cNvSpPr/>
            <p:nvPr/>
          </p:nvSpPr>
          <p:spPr>
            <a:xfrm>
              <a:off x="3059280" y="3326040"/>
              <a:ext cx="2663280" cy="581400"/>
            </a:xfrm>
            <a:prstGeom prst="rect">
              <a:avLst/>
            </a:prstGeom>
            <a:gradFill rotWithShape="0">
              <a:gsLst>
                <a:gs pos="0">
                  <a:srgbClr val="85a6a6"/>
                </a:gs>
                <a:gs pos="50000">
                  <a:srgbClr val="cdffff"/>
                </a:gs>
                <a:gs pos="100000">
                  <a:srgbClr val="85a6a6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7a98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肺淤血、水肿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200480" y="2492280"/>
              <a:ext cx="0" cy="757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5796000" y="2205000"/>
            <a:ext cx="2057400" cy="1724400"/>
            <a:chOff x="5796000" y="2205000"/>
            <a:chExt cx="2057400" cy="1724400"/>
          </a:xfrm>
        </p:grpSpPr>
        <p:sp>
          <p:nvSpPr>
            <p:cNvPr id="333" name=""/>
            <p:cNvSpPr/>
            <p:nvPr/>
          </p:nvSpPr>
          <p:spPr>
            <a:xfrm>
              <a:off x="6024600" y="3348000"/>
              <a:ext cx="1828800" cy="581400"/>
            </a:xfrm>
            <a:prstGeom prst="rect">
              <a:avLst/>
            </a:prstGeom>
            <a:gradFill rotWithShape="0">
              <a:gsLst>
                <a:gs pos="0">
                  <a:srgbClr val="85a6a6"/>
                </a:gs>
                <a:gs pos="50000">
                  <a:srgbClr val="cdffff"/>
                </a:gs>
                <a:gs pos="100000">
                  <a:srgbClr val="85a6a6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7a98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循环障碍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796000" y="2205000"/>
              <a:ext cx="838080" cy="990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838080" y="3886200"/>
            <a:ext cx="1752840" cy="1983240"/>
            <a:chOff x="838080" y="3886200"/>
            <a:chExt cx="1752840" cy="1983240"/>
          </a:xfrm>
        </p:grpSpPr>
        <p:sp>
          <p:nvSpPr>
            <p:cNvPr id="336" name=""/>
            <p:cNvSpPr/>
            <p:nvPr/>
          </p:nvSpPr>
          <p:spPr>
            <a:xfrm>
              <a:off x="1752480" y="3886200"/>
              <a:ext cx="0" cy="838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838080" y="4800600"/>
              <a:ext cx="1752840" cy="1068840"/>
            </a:xfrm>
            <a:prstGeom prst="rect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b08d46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8793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血液性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hypoxia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38" name=""/>
          <p:cNvSpPr/>
          <p:nvPr/>
        </p:nvSpPr>
        <p:spPr>
          <a:xfrm>
            <a:off x="3276720" y="5062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3203640" y="3933720"/>
            <a:ext cx="1981080" cy="1924560"/>
            <a:chOff x="3203640" y="3933720"/>
            <a:chExt cx="1981080" cy="1924560"/>
          </a:xfrm>
        </p:grpSpPr>
        <p:sp>
          <p:nvSpPr>
            <p:cNvPr id="340" name=""/>
            <p:cNvSpPr/>
            <p:nvPr/>
          </p:nvSpPr>
          <p:spPr>
            <a:xfrm>
              <a:off x="4194000" y="3933720"/>
              <a:ext cx="0" cy="7617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203640" y="4789440"/>
              <a:ext cx="1981080" cy="1068840"/>
            </a:xfrm>
            <a:prstGeom prst="rect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b08d46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8793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低张性 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hypoxia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6156360" y="3860640"/>
            <a:ext cx="2133720" cy="1983240"/>
            <a:chOff x="6156360" y="3860640"/>
            <a:chExt cx="2133720" cy="1983240"/>
          </a:xfrm>
        </p:grpSpPr>
        <p:sp>
          <p:nvSpPr>
            <p:cNvPr id="343" name=""/>
            <p:cNvSpPr/>
            <p:nvPr/>
          </p:nvSpPr>
          <p:spPr>
            <a:xfrm>
              <a:off x="6842160" y="3860640"/>
              <a:ext cx="0" cy="838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156360" y="4775040"/>
              <a:ext cx="2133720" cy="1068840"/>
            </a:xfrm>
            <a:prstGeom prst="rect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b08d46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8793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循环性 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hypoxia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1042920" y="765000"/>
            <a:ext cx="7239240" cy="2468880"/>
          </a:xfrm>
          <a:prstGeom prst="rect">
            <a:avLst/>
          </a:prstGeom>
          <a:gradFill rotWithShape="0">
            <a:gsLst>
              <a:gs pos="0">
                <a:srgbClr val="002f75"/>
              </a:gs>
              <a:gs pos="50000">
                <a:srgbClr val="0066ff"/>
              </a:gs>
              <a:gs pos="100000">
                <a:srgbClr val="002f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华文新魏"/>
              </a:rPr>
              <a:t>第三节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华文新魏"/>
              </a:rPr>
              <a:t>缺氧对机体的影响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403280" y="3429000"/>
            <a:ext cx="669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华文新魏"/>
                <a:ea typeface="华文新魏"/>
              </a:rPr>
              <a:t>代偿反应（</a:t>
            </a: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轻度、慢性</a:t>
            </a:r>
            <a:r>
              <a:rPr b="1" lang="zh-CN" sz="4000" spc="-1" strike="noStrike">
                <a:solidFill>
                  <a:srgbClr val="ffcc66"/>
                </a:solidFill>
                <a:latin typeface="华文新魏"/>
                <a:ea typeface="华文新魏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403280" y="4292640"/>
            <a:ext cx="648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损伤反应（</a:t>
            </a: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重度、急性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403280" y="3429000"/>
            <a:ext cx="669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华文新魏"/>
                <a:ea typeface="华文新魏"/>
              </a:rPr>
              <a:t>代偿反应（</a:t>
            </a: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轻度、慢性</a:t>
            </a:r>
            <a:r>
              <a:rPr b="1" lang="zh-CN" sz="4000" spc="-1" strike="noStrike">
                <a:solidFill>
                  <a:srgbClr val="ffcc66"/>
                </a:solidFill>
                <a:latin typeface="华文新魏"/>
                <a:ea typeface="华文新魏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36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1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6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/>
          </p:nvPr>
        </p:nvSpPr>
        <p:spPr>
          <a:xfrm>
            <a:off x="900000" y="980640"/>
            <a:ext cx="8244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1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呼吸系统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11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循环系统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11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血液系统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11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中枢神经系统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11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组织细胞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0" y="2590560"/>
            <a:ext cx="9067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4b2e"/>
                </a:solidFill>
                <a:latin typeface="Times New Roman"/>
                <a:ea typeface="黑体"/>
              </a:rPr>
              <a:t> 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905120"/>
            <a:ext cx="6400800" cy="19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1428840" indent="-142884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cc"/>
                </a:solidFill>
                <a:latin typeface="华文新魏"/>
                <a:ea typeface="华文新魏"/>
              </a:rPr>
              <a:t>一、呼吸系统的变化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1428840" indent="-1428840"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1676520" y="3808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54200" indent="-754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(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一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) 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代偿性反应</a:t>
            </a:r>
            <a:r>
              <a:rPr b="1" lang="zh-CN" sz="24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876920" y="2590920"/>
            <a:ext cx="4267080" cy="3073680"/>
          </a:xfrm>
          <a:prstGeom prst="rect">
            <a:avLst/>
          </a:prstGeom>
          <a:noFill/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华文新魏"/>
                <a:ea typeface="华文新魏"/>
              </a:rPr>
              <a:t>意义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Marlett"/>
                <a:ea typeface="Marlett"/>
              </a:rPr>
              <a:t>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提高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PaO</a:t>
            </a:r>
            <a:r>
              <a:rPr b="0" lang="zh-CN" sz="32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Marlett"/>
                <a:ea typeface="Marlett"/>
              </a:rPr>
              <a:t>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增加回心血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Marlett"/>
                <a:ea typeface="Marlett"/>
              </a:rPr>
              <a:t>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增加弥散面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828800" y="1447920"/>
            <a:ext cx="22860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4b1b1"/>
              </a:gs>
              <a:gs pos="50000">
                <a:srgbClr val="a7ffff"/>
              </a:gs>
              <a:gs pos="100000">
                <a:srgbClr val="74b1b1"/>
              </a:gs>
            </a:gsLst>
            <a:lin ang="5400000"/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4"/>
                </a:solidFill>
                <a:latin typeface="Arial"/>
                <a:ea typeface="华文新魏"/>
              </a:rPr>
              <a:t>PaO</a:t>
            </a:r>
            <a:r>
              <a:rPr b="1" lang="en-US" sz="2800" spc="-1" strike="noStrike" baseline="-25000">
                <a:solidFill>
                  <a:srgbClr val="000044"/>
                </a:solidFill>
                <a:latin typeface="Arial"/>
                <a:ea typeface="华文新魏"/>
              </a:rPr>
              <a:t>2</a:t>
            </a:r>
            <a:r>
              <a:rPr b="1" lang="en-US" sz="2800" spc="-1" strike="noStrike">
                <a:solidFill>
                  <a:srgbClr val="000044"/>
                </a:solidFill>
                <a:latin typeface="Arial"/>
                <a:ea typeface="华文新魏"/>
              </a:rPr>
              <a:t>↓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4"/>
                </a:solidFill>
                <a:latin typeface="Arial"/>
                <a:ea typeface="华文新魏"/>
              </a:rPr>
              <a:t>(&lt;60mmHg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5" name=""/>
          <p:cNvGrpSpPr/>
          <p:nvPr/>
        </p:nvGrpSpPr>
        <p:grpSpPr>
          <a:xfrm>
            <a:off x="1371600" y="2286000"/>
            <a:ext cx="3124080" cy="1371600"/>
            <a:chOff x="1371600" y="2286000"/>
            <a:chExt cx="3124080" cy="1371600"/>
          </a:xfrm>
        </p:grpSpPr>
        <p:sp>
          <p:nvSpPr>
            <p:cNvPr id="356" name=""/>
            <p:cNvSpPr/>
            <p:nvPr/>
          </p:nvSpPr>
          <p:spPr>
            <a:xfrm>
              <a:off x="1371600" y="2819160"/>
              <a:ext cx="3124080" cy="838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4b1b1"/>
                </a:gs>
                <a:gs pos="50000">
                  <a:srgbClr val="a7ffff"/>
                </a:gs>
                <a:gs pos="100000">
                  <a:srgbClr val="74b1b1"/>
                </a:gs>
              </a:gsLst>
              <a:lin ang="5400000"/>
            </a:gra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44"/>
                  </a:solidFill>
                  <a:latin typeface="Arial"/>
                  <a:ea typeface="华文新魏"/>
                </a:rPr>
                <a:t>颈动脉体、主动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44"/>
                  </a:solidFill>
                  <a:latin typeface="Arial"/>
                  <a:ea typeface="华文新魏"/>
                </a:rPr>
                <a:t>脉体化学感受器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895480" y="2286000"/>
              <a:ext cx="228600" cy="533160"/>
            </a:xfrm>
            <a:prstGeom prst="downArrow">
              <a:avLst>
                <a:gd name="adj1" fmla="val 50000"/>
                <a:gd name="adj2" fmla="val 58307"/>
              </a:avLst>
            </a:prstGeom>
            <a:gradFill rotWithShape="0">
              <a:gsLst>
                <a:gs pos="0">
                  <a:srgbClr val="74b1b1"/>
                </a:gs>
                <a:gs pos="50000">
                  <a:srgbClr val="a7ffff"/>
                </a:gs>
                <a:gs pos="100000">
                  <a:srgbClr val="74b1b1"/>
                </a:gs>
              </a:gsLst>
              <a:lin ang="5400000"/>
            </a:gra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58" name=""/>
          <p:cNvGrpSpPr/>
          <p:nvPr/>
        </p:nvGrpSpPr>
        <p:grpSpPr>
          <a:xfrm>
            <a:off x="1662120" y="4952880"/>
            <a:ext cx="2666880" cy="1447920"/>
            <a:chOff x="1662120" y="4952880"/>
            <a:chExt cx="2666880" cy="1447920"/>
          </a:xfrm>
        </p:grpSpPr>
        <p:sp>
          <p:nvSpPr>
            <p:cNvPr id="359" name=""/>
            <p:cNvSpPr/>
            <p:nvPr/>
          </p:nvSpPr>
          <p:spPr>
            <a:xfrm>
              <a:off x="1662120" y="5486400"/>
              <a:ext cx="2666880" cy="914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a9a987"/>
                </a:gs>
                <a:gs pos="50000">
                  <a:srgbClr val="ffffcc"/>
                </a:gs>
                <a:gs pos="100000">
                  <a:srgbClr val="a9a987"/>
                </a:gs>
              </a:gsLst>
              <a:lin ang="5400000"/>
            </a:gra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44"/>
                  </a:solidFill>
                  <a:latin typeface="Arial"/>
                  <a:ea typeface="华文新魏"/>
                </a:rPr>
                <a:t>呼吸运动↑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44"/>
                  </a:solidFill>
                  <a:latin typeface="Arial"/>
                  <a:ea typeface="华文新魏"/>
                </a:rPr>
                <a:t>肺泡通气量↑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895480" y="4952880"/>
              <a:ext cx="228600" cy="533520"/>
            </a:xfrm>
            <a:prstGeom prst="downArrow">
              <a:avLst>
                <a:gd name="adj1" fmla="val 50000"/>
                <a:gd name="adj2" fmla="val 58346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1676520" y="3733920"/>
            <a:ext cx="2666880" cy="1156680"/>
            <a:chOff x="1676520" y="3733920"/>
            <a:chExt cx="2666880" cy="1156680"/>
          </a:xfrm>
        </p:grpSpPr>
        <p:sp>
          <p:nvSpPr>
            <p:cNvPr id="362" name=""/>
            <p:cNvSpPr/>
            <p:nvPr/>
          </p:nvSpPr>
          <p:spPr>
            <a:xfrm>
              <a:off x="1676520" y="4281480"/>
              <a:ext cx="2666880" cy="6091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a9a987"/>
                </a:gs>
                <a:gs pos="50000">
                  <a:srgbClr val="ffffcc"/>
                </a:gs>
                <a:gs pos="100000">
                  <a:srgbClr val="a9a987"/>
                </a:gs>
              </a:gsLst>
              <a:lin ang="5400000"/>
            </a:gra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44"/>
                  </a:solidFill>
                  <a:latin typeface="Arial"/>
                  <a:ea typeface="华文新魏"/>
                </a:rPr>
                <a:t>呼吸中枢兴奋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895480" y="3733920"/>
              <a:ext cx="228600" cy="533160"/>
            </a:xfrm>
            <a:prstGeom prst="downArrow">
              <a:avLst>
                <a:gd name="adj1" fmla="val 50000"/>
                <a:gd name="adj2" fmla="val 58307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9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4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9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468360" y="189000"/>
            <a:ext cx="777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54200" indent="-75420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华文新魏"/>
              </a:rPr>
              <a:t>(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华文新魏"/>
              </a:rPr>
              <a:t>二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华文新魏"/>
              </a:rPr>
              <a:t>) 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华文新魏"/>
              </a:rPr>
              <a:t>损伤性变化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0" y="1125360"/>
            <a:ext cx="8507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1.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急性严重低张性缺氧</a:t>
            </a:r>
            <a:r>
              <a:rPr b="1" lang="zh-CN" sz="4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  急性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肺水肿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275760" y="3284640"/>
            <a:ext cx="6766200" cy="1814400"/>
            <a:chOff x="275760" y="3284640"/>
            <a:chExt cx="6766200" cy="1814400"/>
          </a:xfrm>
        </p:grpSpPr>
        <p:sp>
          <p:nvSpPr>
            <p:cNvPr id="367" name=""/>
            <p:cNvSpPr/>
            <p:nvPr/>
          </p:nvSpPr>
          <p:spPr>
            <a:xfrm>
              <a:off x="275760" y="3284640"/>
              <a:ext cx="1003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ffff"/>
                  </a:solidFill>
                  <a:latin typeface="Times New Roman"/>
                  <a:ea typeface="华文新魏"/>
                </a:rPr>
                <a:t>机制：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96720" y="3981240"/>
              <a:ext cx="6645240" cy="11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20000"/>
                </a:lnSpc>
                <a:buClr>
                  <a:srgbClr val="ffffff"/>
                </a:buClr>
                <a:buFont typeface="华文新魏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肺动脉高压；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457200" indent="-457200">
                <a:lnSpc>
                  <a:spcPct val="120000"/>
                </a:lnSpc>
                <a:buClr>
                  <a:srgbClr val="ffffff"/>
                </a:buClr>
                <a:buFont typeface="华文新魏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肺泡</a:t>
              </a:r>
              <a:r>
                <a:rPr b="0" lang="zh-CN" sz="28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-cap</a:t>
              </a:r>
              <a:r>
                <a:rPr b="0" lang="zh-CN" sz="28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膜通透性</a:t>
              </a:r>
              <a:r>
                <a:rPr b="0" lang="zh-CN" sz="2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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9" name=""/>
          <p:cNvSpPr/>
          <p:nvPr/>
        </p:nvSpPr>
        <p:spPr>
          <a:xfrm>
            <a:off x="0" y="1773360"/>
            <a:ext cx="7740720" cy="185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2.PaO</a:t>
            </a:r>
            <a:r>
              <a:rPr b="0" lang="zh-CN" sz="3600" spc="-1" strike="noStrike" baseline="-25000">
                <a:solidFill>
                  <a:srgbClr val="ffffff"/>
                </a:solidFill>
                <a:latin typeface="Arial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&lt;30mmHg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→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抑制呼吸中枢→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中枢性呼吸衰竭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1"/>
          <a:stretch/>
        </p:blipFill>
        <p:spPr>
          <a:xfrm>
            <a:off x="3753000" y="4984920"/>
            <a:ext cx="53910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6" dur="indefinite" restart="never" nodeType="tmRoot">
          <p:childTnLst>
            <p:seq>
              <p:cTn id="677" dur="indefinite" nodeType="mainSeq">
                <p:childTnLst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4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98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500"/>
                            </p:stCondLst>
                            <p:childTnLst>
                              <p:par>
                                <p:cTn id="7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1000"/>
                            </p:stCondLst>
                            <p:childTnLst>
                              <p:par>
                                <p:cTn id="7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0" y="2590560"/>
            <a:ext cx="9067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4b2e"/>
                </a:solidFill>
                <a:latin typeface="Times New Roman"/>
                <a:ea typeface="黑体"/>
              </a:rPr>
              <a:t> 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066680" y="2286000"/>
            <a:ext cx="6934320" cy="18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 algn="ctr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1428840" indent="-1428840" algn="ctr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二、循环系统的变化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1428840" indent="-142884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219320" y="2286000"/>
            <a:ext cx="61722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1143000"/>
            <a:ext cx="4800600" cy="12193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华文新魏"/>
              </a:rPr>
              <a:t>第一节 常用的血氧指标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1066680" y="1066680"/>
            <a:ext cx="6782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54200" indent="-754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(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一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) 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华文新魏"/>
              </a:rPr>
              <a:t>代偿性反应</a:t>
            </a:r>
            <a:r>
              <a:rPr b="1" lang="zh-CN" sz="3600" spc="-1" strike="noStrike">
                <a:solidFill>
                  <a:srgbClr val="00ffff"/>
                </a:solidFill>
                <a:latin typeface="Arial"/>
                <a:ea typeface="华文新魏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762120" y="2590920"/>
            <a:ext cx="8381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心率加快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</a:t>
            </a:r>
            <a:r>
              <a:rPr b="1" lang="zh-CN" sz="3600" spc="-1" strike="noStrike">
                <a:solidFill>
                  <a:srgbClr val="ccffff"/>
                </a:solidFill>
                <a:latin typeface="华文新魏"/>
                <a:ea typeface="华文新魏"/>
              </a:rPr>
              <a:t>肺通气</a:t>
            </a:r>
            <a:r>
              <a:rPr b="1" lang="zh-CN" sz="3600" spc="-1" strike="noStrike">
                <a:solidFill>
                  <a:srgbClr val="ccffff"/>
                </a:solidFill>
                <a:latin typeface="Symbol"/>
                <a:ea typeface="Symbol"/>
              </a:rPr>
              <a:t></a:t>
            </a:r>
            <a:r>
              <a:rPr b="1" lang="zh-CN" sz="3600" spc="-1" strike="noStrike">
                <a:solidFill>
                  <a:srgbClr val="ccffff"/>
                </a:solidFill>
                <a:latin typeface="华文新魏"/>
                <a:ea typeface="华文新魏"/>
              </a:rPr>
              <a:t>，刺激牵张感受器 </a:t>
            </a:r>
            <a:r>
              <a:rPr b="1" lang="zh-CN" sz="3600" spc="-1" strike="noStrike">
                <a:solidFill>
                  <a:srgbClr val="ccffff"/>
                </a:solidFill>
                <a:latin typeface="Symbol"/>
                <a:ea typeface="Symbol"/>
              </a:rPr>
              <a:t></a:t>
            </a:r>
            <a:r>
              <a:rPr b="1" lang="zh-CN" sz="3600" spc="-1" strike="noStrike">
                <a:solidFill>
                  <a:srgbClr val="ccffff"/>
                </a:solidFill>
                <a:latin typeface="华文新魏"/>
                <a:ea typeface="华文新魏"/>
              </a:rPr>
              <a:t>交感</a:t>
            </a:r>
            <a:r>
              <a:rPr b="1" lang="zh-CN" sz="3600" spc="-1" strike="noStrike">
                <a:solidFill>
                  <a:srgbClr val="ccffff"/>
                </a:solidFill>
                <a:latin typeface="华文新魏"/>
                <a:ea typeface="华文新魏"/>
              </a:rPr>
              <a:t>N+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心肌收缩性增强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静脉回流量增加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68360" y="1905120"/>
            <a:ext cx="43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1. 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心输出量增加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tretch/>
        </p:blipFill>
        <p:spPr>
          <a:xfrm>
            <a:off x="468360" y="2565360"/>
            <a:ext cx="1020600" cy="44460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4643280" y="2060640"/>
            <a:ext cx="42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华文新魏"/>
                <a:ea typeface="华文新魏"/>
              </a:rPr>
              <a:t>提高全身组织供血供氧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5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500"/>
                            </p:stCondLst>
                            <p:childTnLst>
                              <p:par>
                                <p:cTn id="75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57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250920" y="765000"/>
            <a:ext cx="424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2. 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血流重新分布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68360" y="1844640"/>
            <a:ext cx="8856720" cy="32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ff"/>
                </a:solidFill>
                <a:latin typeface="Wingdings 2"/>
                <a:ea typeface="Wingdings 2"/>
              </a:rPr>
              <a:t></a:t>
            </a:r>
            <a:r>
              <a:rPr b="1" lang="zh-CN" sz="3600" spc="-1" strike="noStrike">
                <a:solidFill>
                  <a:srgbClr val="ffccff"/>
                </a:solidFill>
                <a:latin typeface="华文新魏"/>
                <a:ea typeface="华文新魏"/>
              </a:rPr>
              <a:t>交感兴奋</a:t>
            </a:r>
            <a:r>
              <a:rPr b="1" lang="zh-CN" sz="3600" spc="-1" strike="noStrike">
                <a:solidFill>
                  <a:srgbClr val="ffccff"/>
                </a:solidFill>
                <a:latin typeface="Symbol"/>
                <a:ea typeface="Symbol"/>
              </a:rPr>
              <a:t>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ff"/>
                </a:solidFill>
                <a:latin typeface="华文新魏"/>
                <a:ea typeface="华文新魏"/>
              </a:rPr>
              <a:t>    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皮肤、骨骼肌、内脏血管收缩；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ff"/>
                </a:solidFill>
                <a:latin typeface="Wingdings 2"/>
                <a:ea typeface="Wingdings 2"/>
              </a:rPr>
              <a:t></a:t>
            </a:r>
            <a:r>
              <a:rPr b="1" lang="zh-CN" sz="3600" spc="-1" strike="noStrike">
                <a:solidFill>
                  <a:srgbClr val="ffccff"/>
                </a:solidFill>
                <a:latin typeface="华文新魏"/>
                <a:ea typeface="华文新魏"/>
              </a:rPr>
              <a:t>乳酸、腺苷、</a:t>
            </a:r>
            <a:r>
              <a:rPr b="1" lang="zh-CN" sz="3600" spc="-1" strike="noStrike">
                <a:solidFill>
                  <a:srgbClr val="ffccff"/>
                </a:solidFill>
                <a:latin typeface="华文新魏"/>
                <a:ea typeface="华文新魏"/>
              </a:rPr>
              <a:t>PGI</a:t>
            </a:r>
            <a:r>
              <a:rPr b="1" lang="zh-CN" sz="3600" spc="-1" strike="noStrike" baseline="-25000">
                <a:solidFill>
                  <a:srgbClr val="ffccff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ccff"/>
                </a:solidFill>
                <a:latin typeface="华文新魏"/>
                <a:ea typeface="华文新魏"/>
              </a:rPr>
              <a:t>等</a:t>
            </a:r>
            <a:r>
              <a:rPr b="1" lang="zh-CN" sz="3200" spc="-1" strike="noStrike">
                <a:solidFill>
                  <a:srgbClr val="ffccff"/>
                </a:solidFill>
                <a:latin typeface="Symbol"/>
                <a:ea typeface="Symbol"/>
              </a:rPr>
              <a:t>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心、脑血管扩张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643280" y="1052640"/>
            <a:ext cx="424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华文新魏"/>
                <a:ea typeface="华文新魏"/>
              </a:rPr>
              <a:t>保证重要器官供血供氧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8" dur="indefinite" restart="never" nodeType="tmRoot">
          <p:childTnLst>
            <p:seq>
              <p:cTn id="759" dur="indefinite" nodeType="mainSeq">
                <p:childTnLst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9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1219320" y="4495680"/>
            <a:ext cx="69339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4. 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组织毛细血管增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066680" y="762120"/>
            <a:ext cx="364968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3. 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肺血管收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538280"/>
            <a:ext cx="6096240" cy="30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ff"/>
                </a:solidFill>
                <a:latin typeface="Wingdings"/>
                <a:ea typeface="Wingdings"/>
              </a:rPr>
              <a:t>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交感神经的作用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ff"/>
                </a:solidFill>
                <a:latin typeface="Wingdings"/>
                <a:ea typeface="Wingdings"/>
              </a:rPr>
              <a:t>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体液因素：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TXA</a:t>
            </a:r>
            <a:r>
              <a:rPr b="1" lang="zh-CN" sz="32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ET </a:t>
            </a:r>
            <a:r>
              <a:rPr b="1" lang="zh-CN" sz="32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  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PGI</a:t>
            </a:r>
            <a:r>
              <a:rPr b="1" lang="zh-CN" sz="32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NO </a:t>
            </a:r>
            <a:r>
              <a:rPr b="1" lang="zh-CN" sz="32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ff"/>
                </a:solidFill>
                <a:latin typeface="Wingdings"/>
                <a:ea typeface="Wingdings"/>
              </a:rPr>
              <a:t>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平滑肌膜电位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↓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059280" y="5300640"/>
            <a:ext cx="84582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66"/>
                </a:solidFill>
                <a:latin typeface="Times New Roman"/>
                <a:ea typeface="华文新魏"/>
              </a:rPr>
              <a:t>             </a:t>
            </a:r>
            <a:r>
              <a:rPr b="1" lang="zh-CN" sz="3200" spc="-1" strike="noStrike">
                <a:solidFill>
                  <a:srgbClr val="66ff33"/>
                </a:solidFill>
                <a:latin typeface="Times New Roman"/>
                <a:ea typeface="华文新魏"/>
              </a:rPr>
              <a:t>增加血氧弥散面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284720" y="1052640"/>
            <a:ext cx="485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华文新魏"/>
                <a:ea typeface="华文新魏"/>
              </a:rPr>
              <a:t>利于维持适当通气∕血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5" dur="indefinite" restart="never" nodeType="tmRoot">
          <p:childTnLst>
            <p:seq>
              <p:cTn id="796" dur="indefinite" nodeType="mainSeq">
                <p:childTnLst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31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1187280" y="2637000"/>
            <a:ext cx="5257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心肌损伤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心律失常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116000" y="184464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肺动脉高压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116000" y="4437000"/>
            <a:ext cx="410364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外周血管扩张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呼吸幅度降低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9640" y="69228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54200" indent="-754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(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二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)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损伤性变化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481720" y="4869000"/>
            <a:ext cx="283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回心血量</a:t>
            </a:r>
            <a:r>
              <a:rPr b="1" lang="zh-CN" sz="3600" spc="-1" strike="noStrike">
                <a:solidFill>
                  <a:srgbClr val="ffffff"/>
                </a:solidFill>
                <a:latin typeface="Symbol"/>
                <a:ea typeface="Symbol"/>
              </a:rPr>
              <a:t>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BP </a:t>
            </a:r>
            <a:r>
              <a:rPr b="1" lang="zh-CN" sz="3600" spc="-1" strike="noStrike">
                <a:solidFill>
                  <a:srgbClr val="ffffff"/>
                </a:solidFill>
                <a:latin typeface="Symbol"/>
                <a:ea typeface="Symbol"/>
              </a:rPr>
              <a:t>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572000" y="4653000"/>
            <a:ext cx="457200" cy="990720"/>
          </a:xfrm>
          <a:custGeom>
            <a:avLst/>
            <a:gdLst>
              <a:gd name="textAreaLeft" fmla="*/ 0 w 457200"/>
              <a:gd name="textAreaRight" fmla="*/ 164880 w 45720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526720" y="2572200"/>
            <a:ext cx="1979640" cy="994320"/>
          </a:xfrm>
          <a:prstGeom prst="ellipse">
            <a:avLst/>
          </a:prstGeom>
          <a:gradFill rotWithShape="0">
            <a:gsLst>
              <a:gs pos="0">
                <a:srgbClr val="2f7517"/>
              </a:gs>
              <a:gs pos="50000">
                <a:srgbClr val="66ff33"/>
              </a:gs>
              <a:gs pos="100000">
                <a:srgbClr val="2f751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心力衰竭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44" dur="indefinite" restart="never" nodeType="tmRoot">
          <p:childTnLst>
            <p:seq>
              <p:cTn id="845" dur="indefinite" nodeType="mainSeq">
                <p:childTnLst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8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9" fill="hold">
                            <p:stCondLst>
                              <p:cond delay="500"/>
                            </p:stCondLst>
                            <p:childTnLst>
                              <p:par>
                                <p:cTn id="8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2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77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0" y="2590560"/>
            <a:ext cx="9067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4b2e"/>
                </a:solidFill>
                <a:latin typeface="Times New Roman"/>
                <a:ea typeface="黑体"/>
              </a:rPr>
              <a:t> 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295280" y="2286000"/>
            <a:ext cx="64771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三、血液系统的变化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1428840" indent="-142884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685800" y="1828800"/>
            <a:ext cx="42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Arial"/>
                <a:ea typeface="华文新魏"/>
              </a:rPr>
              <a:t>1.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66ff33"/>
                </a:solidFill>
                <a:latin typeface="Arial"/>
                <a:ea typeface="华文新魏"/>
              </a:rPr>
              <a:t>RBC↑  Hb ↑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/>
          </p:nvPr>
        </p:nvSpPr>
        <p:spPr>
          <a:xfrm>
            <a:off x="762120" y="25142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ff"/>
                </a:solidFill>
                <a:latin typeface="华文新魏"/>
                <a:ea typeface="华文新魏"/>
              </a:rPr>
              <a:t>急性缺氧：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交感神经兴奋，血液重分布→肝、脾储血释放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570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ff"/>
                </a:solidFill>
                <a:latin typeface="华文新魏"/>
                <a:ea typeface="华文新魏"/>
              </a:rPr>
              <a:t>慢性缺氧：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肾脏→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EPO</a:t>
            </a:r>
            <a:r>
              <a:rPr b="1" lang="zh-CN" sz="32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→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骨髓造血加强</a:t>
            </a:r>
            <a:r>
              <a:rPr b="1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         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990720" y="762120"/>
            <a:ext cx="7010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54200" indent="-754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(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一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) 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代偿性反应</a:t>
            </a:r>
            <a:r>
              <a:rPr b="0" lang="zh-CN" sz="4000" spc="-1" strike="noStrike">
                <a:solidFill>
                  <a:srgbClr val="00ffff"/>
                </a:solidFill>
                <a:latin typeface="华文新魏"/>
                <a:ea typeface="华文新魏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85800" y="464832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华文新魏"/>
                <a:ea typeface="华文新魏"/>
              </a:rPr>
              <a:t>RBC</a:t>
            </a:r>
            <a:r>
              <a:rPr b="1" lang="zh-CN" sz="3600" spc="-1" strike="noStrike">
                <a:solidFill>
                  <a:srgbClr val="ffcc66"/>
                </a:solidFill>
                <a:latin typeface="华文新魏"/>
                <a:ea typeface="华文新魏"/>
              </a:rPr>
              <a:t>过多，组织血流量</a:t>
            </a:r>
            <a:r>
              <a:rPr b="1" lang="zh-CN" sz="3600" spc="-1" strike="noStrike">
                <a:solidFill>
                  <a:srgbClr val="ffcc66"/>
                </a:solidFill>
                <a:latin typeface="Symbol"/>
                <a:ea typeface="Symbol"/>
              </a:rPr>
              <a:t></a:t>
            </a:r>
            <a:r>
              <a:rPr b="1" lang="zh-CN" sz="3600" spc="-1" strike="noStrike">
                <a:solidFill>
                  <a:srgbClr val="ffcc66"/>
                </a:solidFill>
                <a:latin typeface="华文新魏"/>
                <a:ea typeface="华文新魏"/>
              </a:rPr>
              <a:t>，失去代偿意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78" dur="indefinite" restart="never" nodeType="tmRoot">
          <p:childTnLst>
            <p:seq>
              <p:cTn id="879" dur="indefinite" nodeType="mainSeq">
                <p:childTnLst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96" dur="500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01" dur="500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6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2.</a:t>
            </a: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氧离曲线右移→</a:t>
            </a:r>
            <a:r>
              <a:rPr b="0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Hb</a:t>
            </a: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释放</a:t>
            </a:r>
            <a:r>
              <a:rPr b="0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O</a:t>
            </a:r>
            <a:r>
              <a:rPr b="1" lang="zh-CN" sz="3600" spc="-1" strike="noStrike" baseline="-25000">
                <a:solidFill>
                  <a:srgbClr val="66ff33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↑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，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3-DPG ↑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279440" y="302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900000" y="2852640"/>
            <a:ext cx="762012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66"/>
                </a:solidFill>
                <a:latin typeface="华文新魏"/>
                <a:ea typeface="华文新魏"/>
              </a:rPr>
              <a:t>PaO</a:t>
            </a:r>
            <a:r>
              <a:rPr b="1" lang="zh-CN" sz="3200" spc="-1" strike="noStrike" baseline="-25000">
                <a:solidFill>
                  <a:srgbClr val="ffcc66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ffcc66"/>
                </a:solidFill>
                <a:latin typeface="华文新魏"/>
                <a:ea typeface="华文新魏"/>
              </a:rPr>
              <a:t>&lt;60mmHg , Hb</a:t>
            </a:r>
            <a:r>
              <a:rPr b="1" lang="zh-CN" sz="3200" spc="-1" strike="noStrike">
                <a:solidFill>
                  <a:srgbClr val="ffcc66"/>
                </a:solidFill>
                <a:latin typeface="华文新魏"/>
                <a:ea typeface="华文新魏"/>
              </a:rPr>
              <a:t>与</a:t>
            </a:r>
            <a:r>
              <a:rPr b="1" lang="zh-CN" sz="3200" spc="-1" strike="noStrike">
                <a:solidFill>
                  <a:srgbClr val="ffcc66"/>
                </a:solidFill>
                <a:latin typeface="华文新魏"/>
                <a:ea typeface="华文新魏"/>
              </a:rPr>
              <a:t>O</a:t>
            </a:r>
            <a:r>
              <a:rPr b="1" lang="zh-CN" sz="3200" spc="-1" strike="noStrike" baseline="-25000">
                <a:solidFill>
                  <a:srgbClr val="ffcc66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ffcc66"/>
                </a:solidFill>
                <a:latin typeface="华文新魏"/>
                <a:ea typeface="华文新魏"/>
              </a:rPr>
              <a:t>结合受阻，</a:t>
            </a:r>
            <a:r>
              <a:rPr b="1" lang="zh-CN" sz="3200" spc="-1" strike="noStrike">
                <a:solidFill>
                  <a:srgbClr val="ffcc66"/>
                </a:solidFill>
                <a:latin typeface="华文新魏"/>
                <a:ea typeface="华文新魏"/>
              </a:rPr>
              <a:t>SO</a:t>
            </a:r>
            <a:r>
              <a:rPr b="1" lang="zh-CN" sz="3200" spc="-1" strike="noStrike" baseline="-25000">
                <a:solidFill>
                  <a:srgbClr val="ffcc66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ffcc66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ffcc66"/>
                </a:solidFill>
                <a:latin typeface="Symbol"/>
                <a:ea typeface="Symbol"/>
              </a:rPr>
              <a:t></a:t>
            </a:r>
            <a:r>
              <a:rPr b="1" lang="zh-CN" sz="3200" spc="-1" strike="noStrike">
                <a:solidFill>
                  <a:srgbClr val="ffcc66"/>
                </a:solidFill>
                <a:latin typeface="华文新魏"/>
                <a:ea typeface="华文新魏"/>
              </a:rPr>
              <a:t>, </a:t>
            </a:r>
            <a:r>
              <a:rPr b="1" lang="zh-CN" sz="3200" spc="-1" strike="noStrike">
                <a:solidFill>
                  <a:srgbClr val="ffcc66"/>
                </a:solidFill>
                <a:latin typeface="华文新魏"/>
                <a:ea typeface="华文新魏"/>
              </a:rPr>
              <a:t>失去代偿意义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7" dur="indefinite" restart="never" nodeType="tmRoot">
          <p:childTnLst>
            <p:seq>
              <p:cTn id="908" dur="indefinite" nodeType="mainSeq">
                <p:childTnLst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0" y="2590560"/>
            <a:ext cx="9067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4b2e"/>
                </a:solidFill>
                <a:latin typeface="Times New Roman"/>
                <a:ea typeface="黑体"/>
              </a:rPr>
              <a:t> 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09480" y="1981080"/>
            <a:ext cx="8534520" cy="38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轻度缺氧或缺氧早期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血流重新分布保证脑的血流供应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重度缺氧或缺氧中、晚期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 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功能障碍：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脑水肿（细胞、间质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脑细胞受损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533520" y="762120"/>
            <a:ext cx="7848360" cy="1009440"/>
            <a:chOff x="533520" y="762120"/>
            <a:chExt cx="7848360" cy="1009440"/>
          </a:xfrm>
        </p:grpSpPr>
        <p:sp>
          <p:nvSpPr>
            <p:cNvPr id="405" name=""/>
            <p:cNvSpPr/>
            <p:nvPr/>
          </p:nvSpPr>
          <p:spPr>
            <a:xfrm>
              <a:off x="533520" y="762120"/>
              <a:ext cx="6933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四、中枢神经系统的 变化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406" name="" descr=""/>
            <p:cNvPicPr/>
            <p:nvPr/>
          </p:nvPicPr>
          <p:blipFill>
            <a:blip r:embed="rId1"/>
            <a:stretch/>
          </p:blipFill>
          <p:spPr>
            <a:xfrm>
              <a:off x="7315200" y="914400"/>
              <a:ext cx="1066680" cy="8571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921" dur="indefinite" restart="never" nodeType="tmRoot">
          <p:childTnLst>
            <p:seq>
              <p:cTn id="922" dur="indefinite" nodeType="mainSeq">
                <p:childTnLst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1676520" y="1905120"/>
            <a:ext cx="6400800" cy="19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1428840" indent="-1428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五、组织细胞的变化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1428840" indent="-142884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684360" y="549360"/>
            <a:ext cx="6705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54200" indent="-75420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(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一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)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代偿性反应</a:t>
            </a:r>
            <a:r>
              <a:rPr b="0" lang="zh-CN" sz="40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24000" y="1484280"/>
            <a:ext cx="830556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细胞利用氧能力↑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: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线粒体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↑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                     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呼吸酶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↑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糖酵解↑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磷酸果糖激酶（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+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肌红蛋白↑：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与氧的亲和力高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低代谢状态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10" name="缺氧Hband Mb气离曲线" descr=""/>
          <p:cNvPicPr/>
          <p:nvPr/>
        </p:nvPicPr>
        <p:blipFill>
          <a:blip r:embed="rId1"/>
          <a:stretch/>
        </p:blipFill>
        <p:spPr>
          <a:xfrm>
            <a:off x="395280" y="1143000"/>
            <a:ext cx="81532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9" dur="indefinite" restart="never" nodeType="tmRoot">
          <p:childTnLst>
            <p:seq>
              <p:cTn id="960" dur="indefinite" nodeType="mainSeq">
                <p:childTnLst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1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2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7" dur="5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3" dur="5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9" dur="500" fill="hold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0" dur="500" fill="hold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5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99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500" fill="hold"/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50920" y="838080"/>
            <a:ext cx="8208720" cy="77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一、血氧分压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(PO</a:t>
            </a:r>
            <a:r>
              <a:rPr b="0" lang="zh-CN" sz="3200" spc="-1" strike="noStrike" baseline="-30000">
                <a:solidFill>
                  <a:srgbClr val="ffffff"/>
                </a:solidFill>
                <a:latin typeface="Arial"/>
                <a:ea typeface="华文新魏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8000" y="3716280"/>
            <a:ext cx="2728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影响因素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3716280"/>
            <a:ext cx="6443640" cy="22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吸入气体氧分压</a:t>
            </a:r>
            <a:r>
              <a:rPr b="1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(PaO</a:t>
            </a:r>
            <a:r>
              <a:rPr b="1" lang="zh-CN" sz="3200" spc="-1" strike="noStrike" baseline="-25000">
                <a:solidFill>
                  <a:srgbClr val="ffff0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外呼吸的功能</a:t>
            </a:r>
            <a:r>
              <a:rPr b="1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(PaO</a:t>
            </a:r>
            <a:r>
              <a:rPr b="1" lang="zh-CN" sz="3200" spc="-1" strike="noStrike" baseline="-25000">
                <a:solidFill>
                  <a:srgbClr val="ffff0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内呼吸状况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(Pv</a:t>
            </a:r>
            <a:r>
              <a:rPr b="0" lang="zh-CN" sz="3200" spc="-1" strike="noStrike">
                <a:solidFill>
                  <a:srgbClr val="ffff00"/>
                </a:solidFill>
                <a:latin typeface="Arial"/>
                <a:ea typeface="华文新魏"/>
              </a:rPr>
              <a:t>O</a:t>
            </a:r>
            <a:r>
              <a:rPr b="0" lang="zh-CN" sz="3200" spc="-1" strike="noStrike" baseline="-30000">
                <a:solidFill>
                  <a:srgbClr val="ffff00"/>
                </a:solidFill>
                <a:latin typeface="Arial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50920" y="1916280"/>
            <a:ext cx="87487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定义：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溶解于血液中的氧所产生的张力。      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2924280"/>
            <a:ext cx="8713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      </a:t>
            </a:r>
            <a:r>
              <a:rPr b="1" lang="en-US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Pa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100mmHg /  Pv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40mmH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838080" y="114300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54200" indent="-754200"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华文新魏"/>
              </a:rPr>
              <a:t>(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华文新魏"/>
              </a:rPr>
              <a:t>二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华文新魏"/>
              </a:rPr>
              <a:t>)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华文新魏"/>
              </a:rPr>
              <a:t>损伤性变化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143000" y="464832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901"/>
              </a:spcBef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溶酶体损伤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295280" y="2209680"/>
            <a:ext cx="57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细胞膜损伤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187280" y="3573360"/>
            <a:ext cx="723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线粒体损伤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373840" y="2923200"/>
            <a:ext cx="458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①</a:t>
            </a: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Na</a:t>
            </a:r>
            <a:r>
              <a:rPr b="0" lang="zh-CN" sz="3200" spc="-1" strike="noStrike" baseline="30000">
                <a:solidFill>
                  <a:srgbClr val="ffff00"/>
                </a:solidFill>
                <a:latin typeface="华文新魏"/>
                <a:ea typeface="华文新魏"/>
              </a:rPr>
              <a:t>+</a:t>
            </a: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内流↑②</a:t>
            </a: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K</a:t>
            </a:r>
            <a:r>
              <a:rPr b="0" lang="zh-CN" sz="3200" spc="-1" strike="noStrike" baseline="30000">
                <a:solidFill>
                  <a:srgbClr val="ffff00"/>
                </a:solidFill>
                <a:latin typeface="华文新魏"/>
                <a:ea typeface="华文新魏"/>
              </a:rPr>
              <a:t>+</a:t>
            </a: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外流↑③</a:t>
            </a: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Ca</a:t>
            </a:r>
            <a:r>
              <a:rPr b="0" lang="zh-CN" sz="3200" spc="-1" strike="noStrike" baseline="30000">
                <a:solidFill>
                  <a:srgbClr val="ffff00"/>
                </a:solidFill>
                <a:latin typeface="华文新魏"/>
                <a:ea typeface="华文新魏"/>
              </a:rPr>
              <a:t>2+</a:t>
            </a: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内流↑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6" dur="indefinite" restart="never" nodeType="tmRoot">
          <p:childTnLst>
            <p:seq>
              <p:cTn id="1007" dur="indefinite" nodeType="mainSeq">
                <p:childTnLst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2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3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18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slide(fromLeft)" transition="out">
                                      <p:cBhvr additive="repl">
                                        <p:cTn id="1022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7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8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4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539640" y="6019920"/>
            <a:ext cx="84376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17" name=""/>
          <p:cNvGrpSpPr/>
          <p:nvPr/>
        </p:nvGrpSpPr>
        <p:grpSpPr>
          <a:xfrm>
            <a:off x="1463760" y="5958000"/>
            <a:ext cx="5225760" cy="886680"/>
            <a:chOff x="1463760" y="5958000"/>
            <a:chExt cx="5225760" cy="886680"/>
          </a:xfrm>
        </p:grpSpPr>
        <p:sp>
          <p:nvSpPr>
            <p:cNvPr id="418" name=""/>
            <p:cNvSpPr/>
            <p:nvPr/>
          </p:nvSpPr>
          <p:spPr>
            <a:xfrm>
              <a:off x="1463760" y="5958000"/>
              <a:ext cx="301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华文新魏"/>
                  <a:ea typeface="华文新魏"/>
                </a:rPr>
                <a:t>Na</a:t>
              </a:r>
              <a:r>
                <a:rPr b="1" lang="zh-CN" sz="2400" spc="-1" strike="noStrike" baseline="30000">
                  <a:solidFill>
                    <a:srgbClr val="000099"/>
                  </a:solidFill>
                  <a:latin typeface="华文新魏"/>
                  <a:ea typeface="华文新魏"/>
                </a:rPr>
                <a:t>+</a:t>
              </a:r>
              <a:r>
                <a:rPr b="1" lang="zh-CN" sz="2400" spc="-1" strike="noStrike">
                  <a:solidFill>
                    <a:srgbClr val="000099"/>
                  </a:solidFill>
                  <a:latin typeface="华文新魏"/>
                  <a:ea typeface="华文新魏"/>
                </a:rPr>
                <a:t>、</a:t>
              </a:r>
              <a:r>
                <a:rPr b="1" lang="zh-CN" sz="2400" spc="-1" strike="noStrike">
                  <a:solidFill>
                    <a:srgbClr val="000099"/>
                  </a:solidFill>
                  <a:latin typeface="华文新魏"/>
                  <a:ea typeface="华文新魏"/>
                </a:rPr>
                <a:t>Ca</a:t>
              </a:r>
              <a:r>
                <a:rPr b="1" lang="zh-CN" sz="2400" spc="-1" strike="noStrike" baseline="30000">
                  <a:solidFill>
                    <a:srgbClr val="000099"/>
                  </a:solidFill>
                  <a:latin typeface="华文新魏"/>
                  <a:ea typeface="华文新魏"/>
                </a:rPr>
                <a:t>2+</a:t>
              </a:r>
              <a:r>
                <a:rPr b="1" lang="zh-CN" sz="2400" spc="-1" strike="noStrike">
                  <a:solidFill>
                    <a:srgbClr val="000099"/>
                  </a:solidFill>
                  <a:latin typeface="华文新魏"/>
                  <a:ea typeface="华文新魏"/>
                </a:rPr>
                <a:t>内流，</a:t>
              </a:r>
              <a:r>
                <a:rPr b="1" lang="zh-CN" sz="2400" spc="-1" strike="noStrike">
                  <a:solidFill>
                    <a:srgbClr val="000099"/>
                  </a:solidFill>
                  <a:latin typeface="华文新魏"/>
                  <a:ea typeface="华文新魏"/>
                </a:rPr>
                <a:t>K</a:t>
              </a:r>
              <a:r>
                <a:rPr b="1" lang="zh-CN" sz="2400" spc="-1" strike="noStrike" baseline="30000">
                  <a:solidFill>
                    <a:srgbClr val="000099"/>
                  </a:solidFill>
                  <a:latin typeface="华文新魏"/>
                  <a:ea typeface="华文新魏"/>
                </a:rPr>
                <a:t>+</a:t>
              </a:r>
              <a:r>
                <a:rPr b="1" lang="zh-CN" sz="2400" spc="-1" strike="noStrike">
                  <a:solidFill>
                    <a:srgbClr val="000099"/>
                  </a:solidFill>
                  <a:latin typeface="华文新魏"/>
                  <a:ea typeface="华文新魏"/>
                </a:rPr>
                <a:t>外流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286600" y="5961240"/>
              <a:ext cx="140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华文新魏"/>
                  <a:ea typeface="华文新魏"/>
                </a:rPr>
                <a:t>细胞膜通透性</a:t>
              </a:r>
              <a:r>
                <a:rPr b="1" lang="zh-CN" sz="24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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765080" y="6292800"/>
              <a:ext cx="259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华文新魏"/>
                  <a:ea typeface="华文新魏"/>
                </a:rPr>
                <a:t>线粒体损伤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271840" y="638496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华文新魏"/>
                  <a:ea typeface="华文新魏"/>
                </a:rPr>
                <a:t>溶酶体损伤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422" name="" descr=""/>
          <p:cNvPicPr/>
          <p:nvPr/>
        </p:nvPicPr>
        <p:blipFill>
          <a:blip r:embed="rId1"/>
          <a:stretch/>
        </p:blipFill>
        <p:spPr>
          <a:xfrm>
            <a:off x="762120" y="228600"/>
            <a:ext cx="7543800" cy="576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1219320" y="2286000"/>
            <a:ext cx="61722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0880" y="1219320"/>
            <a:ext cx="8458200" cy="19810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华文新魏"/>
              </a:rPr>
              <a:t>第四节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华文新魏"/>
              </a:rPr>
              <a:t>缺氧治疗的病理生理学基础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/>
          <p:nvPr/>
        </p:nvSpPr>
        <p:spPr>
          <a:xfrm>
            <a:off x="228600" y="762120"/>
            <a:ext cx="830412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143000" indent="-22860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一、去除病因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二、吸氧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       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1.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低张性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hypoxia :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疗效最好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       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2.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血液性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hypoxi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       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3.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循环性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hypoxi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       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4.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组织性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hypoxi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6" name="" descr=""/>
          <p:cNvPicPr/>
          <p:nvPr/>
        </p:nvPicPr>
        <p:blipFill>
          <a:blip r:embed="rId1"/>
          <a:stretch/>
        </p:blipFill>
        <p:spPr>
          <a:xfrm>
            <a:off x="7162920" y="4114800"/>
            <a:ext cx="1116000" cy="23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5" dur="indefinite" restart="never" nodeType="tmRoot">
          <p:childTnLst>
            <p:seq>
              <p:cTn id="1036" dur="indefinite" nodeType="mainSeq">
                <p:childTnLst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1" dur="500" fill="hold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2" dur="500" fill="hold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7" dur="500" fill="hold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8" dur="500" fill="hold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3" dur="500" fill="hold"/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4" dur="500" fill="hold"/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9" dur="500" fill="hold"/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0" dur="500" fill="hold"/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1" fill="hold">
                            <p:stCondLst>
                              <p:cond delay="500"/>
                            </p:stCondLst>
                            <p:childTnLst>
                              <p:par>
                                <p:cTn id="10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4" dur="500" fill="hold"/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5" dur="500" fill="hold"/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9" dur="500" fill="hold"/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0" dur="500" fill="hold"/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3200400" y="6033960"/>
            <a:ext cx="2895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Everes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28" name=""/>
          <p:cNvGraphicFramePr/>
          <p:nvPr/>
        </p:nvGraphicFramePr>
        <p:xfrm>
          <a:off x="0" y="907920"/>
          <a:ext cx="9144000" cy="480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07920"/>
                    <a:ext cx="914400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0" name=""/>
          <p:cNvGraphicFramePr/>
          <p:nvPr/>
        </p:nvGraphicFramePr>
        <p:xfrm>
          <a:off x="7596360" y="1125360"/>
          <a:ext cx="1379520" cy="164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96360" y="1125360"/>
                    <a:ext cx="1379520" cy="164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2" name=""/>
          <p:cNvSpPr/>
          <p:nvPr/>
        </p:nvSpPr>
        <p:spPr>
          <a:xfrm>
            <a:off x="2136600" y="1628640"/>
            <a:ext cx="10735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PiO</a:t>
            </a:r>
            <a:r>
              <a:rPr b="1" lang="en-US" sz="3600" spc="-1" strike="noStrike" baseline="-25000">
                <a:solidFill>
                  <a:srgbClr val="00ffff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223880" y="1628640"/>
            <a:ext cx="11757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PaO</a:t>
            </a:r>
            <a:r>
              <a:rPr b="1" lang="en-US" sz="3600" spc="-1" strike="noStrike" baseline="-25000">
                <a:solidFill>
                  <a:srgbClr val="00ffff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492360" y="1844640"/>
            <a:ext cx="648000" cy="216000"/>
          </a:xfrm>
          <a:prstGeom prst="rightArrow">
            <a:avLst>
              <a:gd name="adj1" fmla="val 50000"/>
              <a:gd name="adj2" fmla="val 75000"/>
            </a:avLst>
          </a:prstGeom>
          <a:gradFill rotWithShape="0">
            <a:gsLst>
              <a:gs pos="0">
                <a:srgbClr val="005cbf"/>
              </a:gs>
              <a:gs pos="100000">
                <a:srgbClr val="03d4a8"/>
              </a:gs>
            </a:gsLst>
            <a:lin ang="10800000"/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64000" y="1773360"/>
            <a:ext cx="144720" cy="360360"/>
          </a:xfrm>
          <a:prstGeom prst="downArrow">
            <a:avLst>
              <a:gd name="adj1" fmla="val 50000"/>
              <a:gd name="adj2" fmla="val 62251"/>
            </a:avLst>
          </a:prstGeom>
          <a:solidFill>
            <a:srgbClr val="ffff99"/>
          </a:soli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203640" y="1773360"/>
            <a:ext cx="144360" cy="360360"/>
          </a:xfrm>
          <a:prstGeom prst="downArrow">
            <a:avLst>
              <a:gd name="adj1" fmla="val 50000"/>
              <a:gd name="adj2" fmla="val 62406"/>
            </a:avLst>
          </a:prstGeom>
          <a:solidFill>
            <a:srgbClr val="ffff99"/>
          </a:soli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37" name=""/>
          <p:cNvGraphicFramePr/>
          <p:nvPr/>
        </p:nvGraphicFramePr>
        <p:xfrm>
          <a:off x="3780000" y="3284640"/>
          <a:ext cx="1584000" cy="2255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3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780000" y="3284640"/>
                    <a:ext cx="1584000" cy="22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9" name="">
            <a:hlinkClick r:id="rId7" action="ppaction://hlinksldjump"/>
          </p:cNvPr>
          <p:cNvSpPr/>
          <p:nvPr/>
        </p:nvSpPr>
        <p:spPr>
          <a:xfrm>
            <a:off x="8172360" y="5950080"/>
            <a:ext cx="287280" cy="21564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8764" h="21600">
                <a:moveTo>
                  <a:pt x="0" y="0"/>
                </a:moveTo>
                <a:lnTo>
                  <a:pt x="28764" y="0"/>
                </a:lnTo>
                <a:lnTo>
                  <a:pt x="28764" y="21600"/>
                </a:lnTo>
                <a:lnTo>
                  <a:pt x="0" y="21600"/>
                </a:lnTo>
                <a:close/>
              </a:path>
              <a:path fill="lightenLess" w="28764" h="21600">
                <a:moveTo>
                  <a:pt x="0" y="0"/>
                </a:moveTo>
                <a:lnTo>
                  <a:pt x="28764" y="0"/>
                </a:lnTo>
                <a:lnTo>
                  <a:pt x="27364" y="1400"/>
                </a:lnTo>
                <a:lnTo>
                  <a:pt x="1400" y="1400"/>
                </a:lnTo>
                <a:close/>
              </a:path>
              <a:path fill="darken" w="28764" h="21600">
                <a:moveTo>
                  <a:pt x="28764" y="0"/>
                </a:moveTo>
                <a:lnTo>
                  <a:pt x="28764" y="21600"/>
                </a:lnTo>
                <a:lnTo>
                  <a:pt x="27364" y="20200"/>
                </a:lnTo>
                <a:lnTo>
                  <a:pt x="27364" y="1400"/>
                </a:lnTo>
                <a:close/>
              </a:path>
              <a:path fill="darkenLess" w="28764" h="21600">
                <a:moveTo>
                  <a:pt x="287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4" y="20200"/>
                </a:lnTo>
                <a:close/>
              </a:path>
              <a:path fill="lighten" w="287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4" h="21600">
                <a:moveTo>
                  <a:pt x="7376" y="10800"/>
                </a:moveTo>
                <a:lnTo>
                  <a:pt x="21388" y="3794"/>
                </a:lnTo>
                <a:lnTo>
                  <a:pt x="21388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071" dur="indefinite" restart="never" nodeType="tmRoot">
          <p:childTnLst>
            <p:seq>
              <p:cTn id="1072" dur="indefinite" nodeType="mainSeq">
                <p:childTnLst>
                  <p:par>
                    <p:cTn id="1073" fill="hold">
                      <p:stCondLst>
                        <p:cond delay="0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77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8" fill="hold">
                            <p:stCondLst>
                              <p:cond delay="500"/>
                            </p:stCondLst>
                            <p:childTnLst>
                              <p:par>
                                <p:cTn id="10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88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9" fill="hold">
                            <p:stCondLst>
                              <p:cond delay="500"/>
                            </p:stCondLst>
                            <p:childTnLst>
                              <p:par>
                                <p:cTn id="10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9" fill="hold">
                            <p:stCondLst>
                              <p:cond delay="500"/>
                            </p:stCondLst>
                            <p:childTnLst>
                              <p:par>
                                <p:cTn id="11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2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24000" y="4941720"/>
            <a:ext cx="25146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影响因素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059280" y="5084640"/>
            <a:ext cx="281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Hb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的质和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1905120"/>
            <a:ext cx="82947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定义：</a:t>
            </a:r>
            <a:r>
              <a:rPr b="0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100 ml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血液中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Hb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被氧充分饱和时的最大带氧量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133720" y="609480"/>
            <a:ext cx="59436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二、血氧容量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CO</a:t>
            </a:r>
            <a:r>
              <a:rPr b="0" lang="zh-CN" sz="2800" spc="-1" strike="noStrike" baseline="-25000">
                <a:solidFill>
                  <a:srgbClr val="ffffff"/>
                </a:solidFill>
                <a:latin typeface="Arial"/>
                <a:ea typeface="华文新魏"/>
              </a:rPr>
              <a:t>2max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华文新魏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619280" y="350028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反映血液携带氧的能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763640" y="4149720"/>
            <a:ext cx="51847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1.34ml/g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×</a:t>
            </a:r>
            <a:r>
              <a:rPr b="0" lang="en-US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15g/dl=20ml/d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324000" y="1916280"/>
            <a:ext cx="8138880" cy="22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定义：</a:t>
            </a:r>
            <a:r>
              <a:rPr b="0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100ml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血液的实际携氧量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     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    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132000" y="4508640"/>
            <a:ext cx="48801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Hb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的质和量；</a:t>
            </a:r>
            <a:r>
              <a:rPr b="0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PO</a:t>
            </a:r>
            <a:r>
              <a:rPr b="0" lang="zh-CN" sz="3600" spc="-1" strike="noStrike" baseline="-25000">
                <a:solidFill>
                  <a:srgbClr val="ffff00"/>
                </a:solidFill>
                <a:latin typeface="Arial"/>
                <a:ea typeface="华文新魏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0920" y="443700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影响因素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133720" y="868320"/>
            <a:ext cx="44956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三、血氧含量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CO</a:t>
            </a:r>
            <a:r>
              <a:rPr b="0" lang="zh-CN" sz="2800" spc="-1" strike="noStrike" baseline="-25000">
                <a:solidFill>
                  <a:srgbClr val="ffffff"/>
                </a:solidFill>
                <a:latin typeface="Arial"/>
                <a:ea typeface="华文新魏"/>
              </a:rPr>
              <a:t>2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华文新魏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03560" y="3429000"/>
            <a:ext cx="6203160" cy="90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C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a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:19ml/dl   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C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V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:14ml/d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395800" y="2852640"/>
            <a:ext cx="460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溶解氧（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0.3ml/dl)+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结合氧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457200" y="83808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23880" indent="-15238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动静脉血氧含量差  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(A-V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6515280"/>
            <a:ext cx="228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800600" y="6515280"/>
            <a:ext cx="228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90720" y="350532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9ml/d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50532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4ml/d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733920" y="541008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5ml/d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4267080"/>
            <a:ext cx="7238880" cy="609840"/>
          </a:xfrm>
          <a:prstGeom prst="rect">
            <a:avLst/>
          </a:prstGeom>
          <a:gradFill rotWithShape="0">
            <a:gsLst>
              <a:gs pos="0">
                <a:srgbClr val="761700"/>
              </a:gs>
              <a:gs pos="100000">
                <a:srgbClr val="ff3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6095880" y="4876920"/>
            <a:ext cx="1447560" cy="609480"/>
            <a:chOff x="6095880" y="4876920"/>
            <a:chExt cx="1447560" cy="609480"/>
          </a:xfrm>
        </p:grpSpPr>
        <p:sp>
          <p:nvSpPr>
            <p:cNvPr id="132" name=""/>
            <p:cNvSpPr/>
            <p:nvPr/>
          </p:nvSpPr>
          <p:spPr>
            <a:xfrm>
              <a:off x="6095880" y="4876920"/>
              <a:ext cx="1447560" cy="609480"/>
            </a:xfrm>
            <a:prstGeom prst="ellipse">
              <a:avLst/>
            </a:prstGeom>
            <a:gradFill rotWithShape="0">
              <a:gsLst>
                <a:gs pos="0">
                  <a:srgbClr val="462f75"/>
                </a:gs>
                <a:gs pos="50000">
                  <a:srgbClr val="9966ff"/>
                </a:gs>
                <a:gs pos="100000">
                  <a:srgbClr val="462f75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400440" y="5181480"/>
              <a:ext cx="228600" cy="1526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4572000" y="4876920"/>
            <a:ext cx="1447560" cy="609480"/>
            <a:chOff x="4572000" y="4876920"/>
            <a:chExt cx="1447560" cy="609480"/>
          </a:xfrm>
        </p:grpSpPr>
        <p:sp>
          <p:nvSpPr>
            <p:cNvPr id="135" name=""/>
            <p:cNvSpPr/>
            <p:nvPr/>
          </p:nvSpPr>
          <p:spPr>
            <a:xfrm>
              <a:off x="4572000" y="4876920"/>
              <a:ext cx="1447560" cy="609480"/>
            </a:xfrm>
            <a:prstGeom prst="ellipse">
              <a:avLst/>
            </a:prstGeom>
            <a:gradFill rotWithShape="0">
              <a:gsLst>
                <a:gs pos="0">
                  <a:srgbClr val="462f75"/>
                </a:gs>
                <a:gs pos="50000">
                  <a:srgbClr val="9966ff"/>
                </a:gs>
                <a:gs pos="100000">
                  <a:srgbClr val="462f75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876560" y="5181480"/>
              <a:ext cx="228600" cy="1526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3048120" y="4876920"/>
            <a:ext cx="1447560" cy="609480"/>
            <a:chOff x="3048120" y="4876920"/>
            <a:chExt cx="1447560" cy="609480"/>
          </a:xfrm>
        </p:grpSpPr>
        <p:sp>
          <p:nvSpPr>
            <p:cNvPr id="138" name=""/>
            <p:cNvSpPr/>
            <p:nvPr/>
          </p:nvSpPr>
          <p:spPr>
            <a:xfrm>
              <a:off x="3048120" y="4876920"/>
              <a:ext cx="1447560" cy="609480"/>
            </a:xfrm>
            <a:prstGeom prst="ellipse">
              <a:avLst/>
            </a:prstGeom>
            <a:gradFill rotWithShape="0">
              <a:gsLst>
                <a:gs pos="0">
                  <a:srgbClr val="462f75"/>
                </a:gs>
                <a:gs pos="50000">
                  <a:srgbClr val="9966ff"/>
                </a:gs>
                <a:gs pos="100000">
                  <a:srgbClr val="462f75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352680" y="5181480"/>
              <a:ext cx="228600" cy="1526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1523880" y="4876920"/>
            <a:ext cx="1447560" cy="609480"/>
            <a:chOff x="1523880" y="4876920"/>
            <a:chExt cx="1447560" cy="609480"/>
          </a:xfrm>
        </p:grpSpPr>
        <p:sp>
          <p:nvSpPr>
            <p:cNvPr id="141" name=""/>
            <p:cNvSpPr/>
            <p:nvPr/>
          </p:nvSpPr>
          <p:spPr>
            <a:xfrm>
              <a:off x="1523880" y="4876920"/>
              <a:ext cx="1447560" cy="609480"/>
            </a:xfrm>
            <a:prstGeom prst="ellipse">
              <a:avLst/>
            </a:prstGeom>
            <a:gradFill rotWithShape="0">
              <a:gsLst>
                <a:gs pos="0">
                  <a:srgbClr val="462f75"/>
                </a:gs>
                <a:gs pos="50000">
                  <a:srgbClr val="9966ff"/>
                </a:gs>
                <a:gs pos="100000">
                  <a:srgbClr val="462f75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828440" y="5181480"/>
              <a:ext cx="228600" cy="1526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1981080" y="4343400"/>
            <a:ext cx="609840" cy="914400"/>
            <a:chOff x="1981080" y="4343400"/>
            <a:chExt cx="609840" cy="914400"/>
          </a:xfrm>
        </p:grpSpPr>
        <p:sp>
          <p:nvSpPr>
            <p:cNvPr id="144" name=""/>
            <p:cNvSpPr/>
            <p:nvPr/>
          </p:nvSpPr>
          <p:spPr>
            <a:xfrm>
              <a:off x="1981080" y="4343400"/>
              <a:ext cx="609840" cy="510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209680" y="4800600"/>
              <a:ext cx="0" cy="457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2362320" y="4343400"/>
            <a:ext cx="609480" cy="914400"/>
            <a:chOff x="2362320" y="4343400"/>
            <a:chExt cx="609480" cy="914400"/>
          </a:xfrm>
        </p:grpSpPr>
        <p:sp>
          <p:nvSpPr>
            <p:cNvPr id="147" name=""/>
            <p:cNvSpPr/>
            <p:nvPr/>
          </p:nvSpPr>
          <p:spPr>
            <a:xfrm>
              <a:off x="2362320" y="4343400"/>
              <a:ext cx="609480" cy="510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90560" y="4800600"/>
              <a:ext cx="0" cy="457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505320" y="4343400"/>
            <a:ext cx="609480" cy="914400"/>
            <a:chOff x="3505320" y="4343400"/>
            <a:chExt cx="609480" cy="914400"/>
          </a:xfrm>
        </p:grpSpPr>
        <p:sp>
          <p:nvSpPr>
            <p:cNvPr id="150" name=""/>
            <p:cNvSpPr/>
            <p:nvPr/>
          </p:nvSpPr>
          <p:spPr>
            <a:xfrm>
              <a:off x="3505320" y="4343400"/>
              <a:ext cx="609480" cy="510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733560" y="4800600"/>
              <a:ext cx="0" cy="457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3851280" y="4292640"/>
            <a:ext cx="609480" cy="914400"/>
            <a:chOff x="3851280" y="4292640"/>
            <a:chExt cx="609480" cy="914400"/>
          </a:xfrm>
        </p:grpSpPr>
        <p:sp>
          <p:nvSpPr>
            <p:cNvPr id="153" name=""/>
            <p:cNvSpPr/>
            <p:nvPr/>
          </p:nvSpPr>
          <p:spPr>
            <a:xfrm>
              <a:off x="3851280" y="4292640"/>
              <a:ext cx="609480" cy="510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079520" y="4749840"/>
              <a:ext cx="0" cy="457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5181480" y="4343400"/>
            <a:ext cx="609840" cy="914400"/>
            <a:chOff x="5181480" y="4343400"/>
            <a:chExt cx="609840" cy="914400"/>
          </a:xfrm>
        </p:grpSpPr>
        <p:sp>
          <p:nvSpPr>
            <p:cNvPr id="156" name=""/>
            <p:cNvSpPr/>
            <p:nvPr/>
          </p:nvSpPr>
          <p:spPr>
            <a:xfrm>
              <a:off x="5181480" y="4343400"/>
              <a:ext cx="609840" cy="510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410080" y="4800600"/>
              <a:ext cx="0" cy="457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228600" y="41911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001000" y="42670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79280" y="177336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定义：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动脉血氧含量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-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静脉血氧含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758320" y="2421000"/>
            <a:ext cx="402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反映组织对氧的摄取和利用能力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971640" y="2852640"/>
            <a:ext cx="7619400" cy="1496160"/>
            <a:chOff x="971640" y="2852640"/>
            <a:chExt cx="7619400" cy="1496160"/>
          </a:xfrm>
        </p:grpSpPr>
        <p:sp>
          <p:nvSpPr>
            <p:cNvPr id="163" name=""/>
            <p:cNvSpPr/>
            <p:nvPr/>
          </p:nvSpPr>
          <p:spPr>
            <a:xfrm>
              <a:off x="1199880" y="2852640"/>
              <a:ext cx="5638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2" marL="3808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00"/>
                  </a:solidFill>
                  <a:latin typeface="华文新魏"/>
                  <a:ea typeface="华文新魏"/>
                </a:rPr>
                <a:t>血氧含量</a:t>
              </a:r>
              <a:r>
                <a:rPr b="1" lang="zh-CN" sz="3600" spc="-1" strike="noStrike">
                  <a:solidFill>
                    <a:srgbClr val="ffff00"/>
                  </a:solidFill>
                  <a:latin typeface="华文新魏"/>
                  <a:ea typeface="华文新魏"/>
                </a:rPr>
                <a:t>-</a:t>
              </a:r>
              <a:r>
                <a:rPr b="1" lang="zh-CN" sz="3600" spc="-1" strike="noStrike">
                  <a:solidFill>
                    <a:srgbClr val="ffff00"/>
                  </a:solidFill>
                  <a:latin typeface="华文新魏"/>
                  <a:ea typeface="华文新魏"/>
                </a:rPr>
                <a:t>溶解的氧量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2" marL="3808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00"/>
                  </a:solidFill>
                  <a:latin typeface="华文新魏"/>
                  <a:ea typeface="华文新魏"/>
                </a:rPr>
                <a:t>血氧容量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428480" y="3494160"/>
              <a:ext cx="556236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914880" y="3157560"/>
              <a:ext cx="1676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</a:t>
              </a:r>
              <a:r>
                <a:rPr b="0" lang="en-US" sz="3600" spc="-1" strike="noStrike">
                  <a:solidFill>
                    <a:srgbClr val="ffff00"/>
                  </a:solidFill>
                  <a:latin typeface="Arial"/>
                </a:rPr>
                <a:t>100%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971640" y="3189240"/>
              <a:ext cx="456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Times New Roman"/>
                </a:rPr>
                <a:t>=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250920" y="4292640"/>
            <a:ext cx="4495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影响因素：</a:t>
            </a:r>
            <a:r>
              <a:rPr b="0" lang="zh-CN" sz="3600" spc="-1" strike="noStrike">
                <a:solidFill>
                  <a:srgbClr val="ffff00"/>
                </a:solidFill>
                <a:latin typeface="Arial"/>
              </a:rPr>
              <a:t>PO</a:t>
            </a:r>
            <a:r>
              <a:rPr b="0" lang="zh-CN" sz="36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50920" y="1628640"/>
            <a:ext cx="72388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定义：</a:t>
            </a:r>
            <a:r>
              <a:rPr b="0" lang="zh-CN" sz="3600" spc="-1" strike="noStrike">
                <a:solidFill>
                  <a:srgbClr val="ffff00"/>
                </a:solidFill>
                <a:latin typeface="Arial"/>
              </a:rPr>
              <a:t>Hb</a:t>
            </a:r>
            <a:r>
              <a:rPr b="0" lang="zh-CN" sz="3600" spc="-1" strike="noStrike">
                <a:solidFill>
                  <a:srgbClr val="ffff00"/>
                </a:solidFill>
                <a:latin typeface="Arial"/>
              </a:rPr>
              <a:t>与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氧结合的百分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286000" y="609480"/>
            <a:ext cx="5334120" cy="75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四、血氧饱和度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(SO</a:t>
            </a:r>
            <a:r>
              <a:rPr b="0" lang="zh-CN" sz="3200" spc="-1" strike="noStrike" baseline="-25000">
                <a:solidFill>
                  <a:srgbClr val="ffffff"/>
                </a:solidFill>
                <a:latin typeface="Arial"/>
                <a:ea typeface="华文新魏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2T09:31:38Z</dcterms:created>
  <dc:creator>赵振海</dc:creator>
  <dc:description/>
  <dc:language>en-US</dc:language>
  <cp:lastModifiedBy>hzg</cp:lastModifiedBy>
  <cp:lastPrinted>2002-05-25T02:59:57Z</cp:lastPrinted>
  <dcterms:modified xsi:type="dcterms:W3CDTF">2014-04-22T02:36:32Z</dcterms:modified>
  <cp:revision>306</cp:revision>
  <dc:subject/>
  <dc:title>没有幻灯片标题</dc:title>
</cp:coreProperties>
</file>